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2.gif" ContentType="image/gif"/>
  <Override PartName="/ppt/media/image17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9.jpeg" ContentType="image/jpeg"/>
  <Override PartName="/ppt/media/image11.png" ContentType="image/png"/>
  <Override PartName="/ppt/media/image26.png" ContentType="image/png"/>
  <Override PartName="/ppt/media/image30.png" ContentType="image/png"/>
  <Override PartName="/ppt/media/image29.jpeg" ContentType="image/jpeg"/>
  <Override PartName="/ppt/media/image31.png" ContentType="image/png"/>
  <Override PartName="/ppt/media/image12.png" ContentType="image/png"/>
  <Override PartName="/ppt/media/image42.jpeg" ContentType="image/jpeg"/>
  <Override PartName="/ppt/media/image32.gif" ContentType="image/gif"/>
  <Override PartName="/ppt/media/image28.png" ContentType="image/png"/>
  <Override PartName="/ppt/media/image7.jpeg" ContentType="image/jpeg"/>
  <Override PartName="/ppt/media/image20.png" ContentType="image/png"/>
  <Override PartName="/ppt/media/image36.png" ContentType="image/png"/>
  <Override PartName="/ppt/media/image41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6.gif" ContentType="image/gif"/>
  <Override PartName="/ppt/media/image44.jpeg" ContentType="image/jpeg"/>
  <Override PartName="/ppt/media/image45.png" ContentType="image/png"/>
  <Override PartName="/ppt/media/image46.png" ContentType="image/png"/>
  <Override PartName="/ppt/media/image8.jpeg" ContentType="image/jpeg"/>
  <Override PartName="/ppt/media/image39.jpeg" ContentType="image/jpeg"/>
  <Override PartName="/ppt/media/image3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FC52-F45D-4C58-9767-BD10ECB5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974-CD60-44DC-AA6E-0F52D9A1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5D4-B29E-47BA-A1AF-88B3AB15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2969-F6D1-4BAC-929E-98AA777D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1DA9-1571-4F9D-9383-FEC34AFA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3A80-F82F-4879-B9EF-C39A4355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B406-5642-41AB-B154-6B0D47F6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95A0-DBF6-45E7-9071-8F872BD2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C273-68E4-4F78-B0BF-5B04F61F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9376-F87E-4AEA-A5A1-E99FD463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3E00-093E-4103-85A9-7A6D2501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CB96-EBCD-491D-AC6B-24B5D605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8575-24E5-4B92-91D7-3B3FECDB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554C-FBA2-4013-91C9-BE37385A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243A-01B1-479C-94C2-F951623B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D936-3E35-4BFD-97DD-CE3338EF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54E5-6696-46C3-AB8A-56C0E9FE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862C6-E02C-4830-9EB6-A3C693CB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0AADD-9267-4A54-B628-B573F44C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92EE6-EB15-4843-86A6-CFD0766C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1A1D3-0575-44C3-B88D-BEE64E99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5FF95-0C04-4B6A-BC15-FEB165EB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67AA-F0EA-448A-A975-6A62600E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BB3E4-6F84-440B-B545-0D7833E1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B3455-9448-426B-927E-F014CD4B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4A916-3D33-4183-8ED8-9AEF959A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EF923-2B67-4C26-AAE3-C689A153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B91B4-D7E2-4036-849E-6DA0084B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43F15-6C7A-4E28-910B-14353C10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B623B-3EE5-41A5-BF5A-0FEDF839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46019-CB3C-4990-900F-FE0945D4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216FC-8403-4D32-AC09-834799E0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E275F-E0DD-4770-8EF3-62848751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C809-1AF8-48ED-9C7C-4F93ADE2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9428D-4824-441A-B0AC-2990BE46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AFB97-86E2-44C3-9661-52EC3AEE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11008-22F2-481F-B31C-10653C3D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9C0C3-8262-4581-8291-B4047363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F4C3B-2E27-48ED-822F-2C7E7A6D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9E7FE-AA38-499E-A66C-D795FA34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DD91F-A070-4363-8150-8C64B4A7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EF59E-D2F7-43AB-BC51-D23A4975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EF1A9-A296-4F35-BBFA-19746524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C7FF0-F0AB-46F0-A8F6-BCD2749E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85E6-AFCC-4F32-AEE0-108AD541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D33A8-2AA4-4D03-8C83-10863BF7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1CBE8-71E2-465D-969A-37709A1E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88157-9AAB-4D59-8AD2-9436F082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CE5B3-F8C6-46F0-9393-DB29AC99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9DB1D-41D0-4137-A8F6-80C79926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2DDA5-139B-4519-B246-FA606E81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C3624-2245-4C53-B0BE-11614618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B82FA-C1DC-4B71-B128-FEA56106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71E2A-368F-4BDD-AE44-3AA87232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7905D-C7E6-4971-A5AF-09555550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213-18CA-438B-9C20-49CBC23B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B721F-D63A-45F9-830C-5034AFD9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1D6F3-6E84-4C20-98CB-C53BDC55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C1EE8-2A54-458D-93F4-EC74AE36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6D15E-16CD-45A8-941C-2C596C72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A47A3-EF0D-4E85-BD08-50C4DA9D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FC36E-D6D3-4CDE-82F1-85AEE956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96272-DBDE-45E8-8EDE-0EDC3BAD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301B3-0432-4FD7-9CF2-A04309CD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39F73-9043-434C-A5D3-00AB0A07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8B3B4-45F5-4EA2-83A1-A4650210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2693-0AD7-453A-B67A-970EF785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16D04-D606-4C49-BB18-AC082133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005C6-1F77-4F27-A092-6071426F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70FF1-F64E-4482-B35B-02A56463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F7DA7-6B7F-49D7-81E0-C0568495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9BA1C-768E-4161-BBED-41E7C5CA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0AABA-52FA-46B7-BCFD-A0410A45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E76DA-6651-4A62-947B-9E37F43F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65C5F-86C8-49F5-8D8C-3CFF5912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5A06C-D54F-4EE9-BC94-31685A1E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D7E7B-4909-410B-BD8E-EF69BC13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82F-BFBF-450B-B8F3-6A44439F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E7496-711B-42A4-B44B-3478315F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62310-5E67-42E4-876F-F4DC3C11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A3BC2-99E7-4C19-A29F-00A6AA5B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26DCB-2895-4A84-B3E1-FF722C1B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B7A78-8F6C-4240-A046-7666F3A6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B80-48F3-4713-9C72-83324127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EAD5-8A4D-4EB5-A4E8-4258871F2FB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2D17-91B7-4169-BCD2-F0C09C70B0C7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4AFD-C229-4C4B-AB04-15D87D910979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101A-69DD-403F-8D5F-57B9A425610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F921-DACF-4E99-B8AD-1A41F9CC7AC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4B5E-CB1D-49B1-94DC-78A1999FC05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F53B-DB59-4313-954E-E89F7D79777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2560" y="3352680"/>
            <a:ext cx="8083440" cy="16765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09120" y="5181480"/>
            <a:ext cx="807732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iz LaRosa http://www.middleschoolscience.com 20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mages from Geology.com unless otherwise noted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59" name="Content Placeholder 2"/>
          <p:cNvSpPr/>
          <p:nvPr/>
        </p:nvSpPr>
        <p:spPr>
          <a:xfrm>
            <a:off x="457200" y="1600200"/>
            <a:ext cx="82296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Clastic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– made of fragments of rock cemented together with calcite or quar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breccia"/>
          <p:cNvPicPr/>
          <p:nvPr/>
        </p:nvPicPr>
        <p:blipFill>
          <a:blip r:embed="rId2"/>
          <a:stretch/>
        </p:blipFill>
        <p:spPr>
          <a:xfrm>
            <a:off x="3733920" y="2971800"/>
            <a:ext cx="4724280" cy="3543480"/>
          </a:xfrm>
          <a:prstGeom prst="rect">
            <a:avLst/>
          </a:prstGeom>
          <a:ln w="0">
            <a:noFill/>
          </a:ln>
        </p:spPr>
      </p:pic>
      <p:grpSp>
        <p:nvGrpSpPr>
          <p:cNvPr id="361" name="Rectangle 4"/>
          <p:cNvGrpSpPr/>
          <p:nvPr/>
        </p:nvGrpSpPr>
        <p:grpSpPr>
          <a:xfrm>
            <a:off x="249120" y="2687760"/>
            <a:ext cx="3311640" cy="4699440"/>
            <a:chOff x="249120" y="2687760"/>
            <a:chExt cx="3311640" cy="4699440"/>
          </a:xfrm>
        </p:grpSpPr>
        <p:pic>
          <p:nvPicPr>
            <p:cNvPr id="362" name="Rectangle 4" descr=""/>
            <p:cNvPicPr/>
            <p:nvPr/>
          </p:nvPicPr>
          <p:blipFill>
            <a:blip r:embed="rId3"/>
            <a:stretch/>
          </p:blipFill>
          <p:spPr>
            <a:xfrm>
              <a:off x="249120" y="2687760"/>
              <a:ext cx="331164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304920" y="2719440"/>
              <a:ext cx="320040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00"/>
                  </a:solidFill>
                  <a:uFillTx/>
                  <a:latin typeface="Corbel"/>
                </a:rPr>
                <a:t>Breccia</a:t>
              </a:r>
              <a:r>
                <a:rPr b="0" lang="en-US" sz="2000" spc="-1" strike="noStrike">
                  <a:solidFill>
                    <a:srgbClr val="ffffff"/>
                  </a:solidFill>
                  <a:latin typeface="Corbel"/>
                </a:rPr>
                <a:t> is a term most often used for clastic sedimentary rocks that are composed of large angular fragments (over two millimeters in diameter)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rbel"/>
                </a:rPr>
                <a:t>The spaces between the large angular fragments can be filled with a matrix of smaller particles or a mineral cement that binds the rock </a:t>
              </a: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together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65" name="Content Placeholder 2"/>
          <p:cNvSpPr/>
          <p:nvPr/>
        </p:nvSpPr>
        <p:spPr>
          <a:xfrm>
            <a:off x="457200" y="1676520"/>
            <a:ext cx="822960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Chemical sedimentary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minerals crystallize out of solution to becom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limestone"/>
          <p:cNvPicPr/>
          <p:nvPr/>
        </p:nvPicPr>
        <p:blipFill>
          <a:blip r:embed="rId2"/>
          <a:stretch/>
        </p:blipFill>
        <p:spPr>
          <a:xfrm>
            <a:off x="3809880" y="2971800"/>
            <a:ext cx="4724640" cy="3543480"/>
          </a:xfrm>
          <a:prstGeom prst="rect">
            <a:avLst/>
          </a:prstGeom>
          <a:ln w="0">
            <a:noFill/>
          </a:ln>
        </p:spPr>
      </p:pic>
      <p:grpSp>
        <p:nvGrpSpPr>
          <p:cNvPr id="367" name="Rectangle 4"/>
          <p:cNvGrpSpPr/>
          <p:nvPr/>
        </p:nvGrpSpPr>
        <p:grpSpPr>
          <a:xfrm>
            <a:off x="249120" y="2865600"/>
            <a:ext cx="3384720" cy="3727440"/>
            <a:chOff x="249120" y="2865600"/>
            <a:chExt cx="3384720" cy="3727440"/>
          </a:xfrm>
        </p:grpSpPr>
        <p:pic>
          <p:nvPicPr>
            <p:cNvPr id="368" name="Rectangle 4" descr=""/>
            <p:cNvPicPr/>
            <p:nvPr/>
          </p:nvPicPr>
          <p:blipFill>
            <a:blip r:embed="rId3"/>
            <a:stretch/>
          </p:blipFill>
          <p:spPr>
            <a:xfrm>
              <a:off x="249120" y="2865600"/>
              <a:ext cx="3384720" cy="32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04920" y="2895480"/>
              <a:ext cx="3276360" cy="36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00"/>
                  </a:solidFill>
                  <a:uFillTx/>
                  <a:latin typeface="Corbel"/>
                </a:rPr>
                <a:t>Limestone</a:t>
              </a: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 is a sedimentary rock composed primarily of calcium carbonate (CaCO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rbel"/>
                </a:rPr>
                <a:t>3</a:t>
              </a: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) in the form of the mineral calcite. It most commonly forms in clear, warm, shallow marine water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It is usually an organic sedimentary rock that forms from the accumulation of shell, coral, algal and fecal debri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71" name="Content Placeholder 2"/>
          <p:cNvSpPr/>
          <p:nvPr/>
        </p:nvSpPr>
        <p:spPr>
          <a:xfrm>
            <a:off x="457200" y="1600200"/>
            <a:ext cx="82296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Organic sedimentary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remains of plants an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bituminous coal"/>
          <p:cNvPicPr/>
          <p:nvPr/>
        </p:nvPicPr>
        <p:blipFill>
          <a:blip r:embed="rId2"/>
          <a:stretch/>
        </p:blipFill>
        <p:spPr>
          <a:xfrm>
            <a:off x="3352680" y="2895480"/>
            <a:ext cx="5334120" cy="3619800"/>
          </a:xfrm>
          <a:prstGeom prst="rect">
            <a:avLst/>
          </a:prstGeom>
          <a:ln w="0">
            <a:noFill/>
          </a:ln>
        </p:spPr>
      </p:pic>
      <p:grpSp>
        <p:nvGrpSpPr>
          <p:cNvPr id="373" name="Rectangle 4"/>
          <p:cNvGrpSpPr/>
          <p:nvPr/>
        </p:nvGrpSpPr>
        <p:grpSpPr>
          <a:xfrm>
            <a:off x="249120" y="2865600"/>
            <a:ext cx="2854440" cy="3803400"/>
            <a:chOff x="249120" y="2865600"/>
            <a:chExt cx="2854440" cy="3803400"/>
          </a:xfrm>
        </p:grpSpPr>
        <p:pic>
          <p:nvPicPr>
            <p:cNvPr id="374" name="Rectangle 4" descr=""/>
            <p:cNvPicPr/>
            <p:nvPr/>
          </p:nvPicPr>
          <p:blipFill>
            <a:blip r:embed="rId3"/>
            <a:stretch/>
          </p:blipFill>
          <p:spPr>
            <a:xfrm>
              <a:off x="249120" y="2865600"/>
              <a:ext cx="2854440" cy="38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304920" y="2895480"/>
              <a:ext cx="274320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00"/>
                  </a:solidFill>
                  <a:uFillTx/>
                  <a:latin typeface="Corbel"/>
                </a:rPr>
                <a:t>Coal</a:t>
              </a: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 is an organic sedimentary rock that forms from the accumulation and preservation of plant materials, usually in a swamp environment.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Coal is a combustible rock and along with oil and natural gas it is one of the three most important fossil fuels.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METAANIM.GIF (355469 bytes)"/>
          <p:cNvPicPr/>
          <p:nvPr/>
        </p:nvPicPr>
        <p:blipFill>
          <a:blip r:embed="rId2"/>
          <a:stretch/>
        </p:blipFill>
        <p:spPr>
          <a:xfrm>
            <a:off x="5867280" y="1981080"/>
            <a:ext cx="3024360" cy="35974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3"/>
          <p:cNvSpPr/>
          <p:nvPr/>
        </p:nvSpPr>
        <p:spPr>
          <a:xfrm>
            <a:off x="5257800" y="6172200"/>
            <a:ext cx="388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fi.edu/fellows/payton/rocks/create/metamorph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609480" y="2133720"/>
            <a:ext cx="525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a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ning to chang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a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nges with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 pressure, but remain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a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ually takes place deep 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6840" y="1600200"/>
            <a:ext cx="8381880" cy="1806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Contact Metamorphism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– heated by nearby magm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creased temperature changes the composition of the rock, minerals are changed into new minera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2" name="Picture 2" descr="hornfels"/>
          <p:cNvPicPr/>
          <p:nvPr/>
        </p:nvPicPr>
        <p:blipFill>
          <a:blip r:embed="rId2"/>
          <a:stretch/>
        </p:blipFill>
        <p:spPr>
          <a:xfrm>
            <a:off x="990720" y="2971800"/>
            <a:ext cx="3124080" cy="2343240"/>
          </a:xfrm>
          <a:prstGeom prst="rect">
            <a:avLst/>
          </a:prstGeom>
          <a:ln w="0">
            <a:noFill/>
          </a:ln>
        </p:spPr>
      </p:pic>
      <p:grpSp>
        <p:nvGrpSpPr>
          <p:cNvPr id="383" name="Rectangle 4"/>
          <p:cNvGrpSpPr/>
          <p:nvPr/>
        </p:nvGrpSpPr>
        <p:grpSpPr>
          <a:xfrm>
            <a:off x="96840" y="5303880"/>
            <a:ext cx="5060880" cy="1587240"/>
            <a:chOff x="96840" y="5303880"/>
            <a:chExt cx="5060880" cy="1587240"/>
          </a:xfrm>
        </p:grpSpPr>
        <p:pic>
          <p:nvPicPr>
            <p:cNvPr id="384" name="Rectangle 4" descr=""/>
            <p:cNvPicPr/>
            <p:nvPr/>
          </p:nvPicPr>
          <p:blipFill>
            <a:blip r:embed="rId3"/>
            <a:stretch/>
          </p:blipFill>
          <p:spPr>
            <a:xfrm>
              <a:off x="96840" y="5303880"/>
              <a:ext cx="506088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152280" y="5334120"/>
              <a:ext cx="4953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Corbel"/>
                </a:rPr>
                <a:t>Hornfels</a:t>
              </a:r>
              <a:r>
                <a:rPr b="0" lang="en-US" sz="2400" spc="-1" strike="noStrike">
                  <a:solidFill>
                    <a:srgbClr val="ffffff"/>
                  </a:solidFill>
                  <a:latin typeface="Corbel"/>
                </a:rPr>
                <a:t> is a fine-grained non-foliated metamorphic rock produced by contact metamorphis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6" name="Picture 4" descr="http://www.windows.ucar.edu/earth/geology/images/meta_contact2.gif"/>
          <p:cNvPicPr/>
          <p:nvPr/>
        </p:nvPicPr>
        <p:blipFill>
          <a:blip r:embed="rId4"/>
          <a:stretch/>
        </p:blipFill>
        <p:spPr>
          <a:xfrm>
            <a:off x="5257800" y="30481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6"/>
          <p:cNvSpPr/>
          <p:nvPr/>
        </p:nvSpPr>
        <p:spPr>
          <a:xfrm>
            <a:off x="3886200" y="6611760"/>
            <a:ext cx="5181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windows.ucar.edu/tour/link=/earth/geology/meta_contact.html&amp;edu=h igh&amp;fr=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304560" y="1774440"/>
            <a:ext cx="5638680" cy="4778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Regional Metamorphism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pressure builds up in rocks that is deep within the Eart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arge pieces of the Earth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 crust collide and the rock is deformed and chemically changed by heat and pressu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Picture 2" descr="http://www.windows.ucar.edu/earth/geology/images/regional_meta.gif"/>
          <p:cNvPicPr/>
          <p:nvPr/>
        </p:nvPicPr>
        <p:blipFill>
          <a:blip r:embed="rId2"/>
          <a:stretch/>
        </p:blipFill>
        <p:spPr>
          <a:xfrm>
            <a:off x="6172200" y="1676520"/>
            <a:ext cx="2514600" cy="502920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6"/>
          <p:cNvSpPr/>
          <p:nvPr/>
        </p:nvSpPr>
        <p:spPr>
          <a:xfrm>
            <a:off x="304920" y="6400800"/>
            <a:ext cx="556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windows.ucar.edu/tour/link=/earth/geology/meta_regional.html&amp;edu=high&amp;fr=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6002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Foliat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-  contain aligned grains of flat miner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4" name="Picture 2" descr="gneiss"/>
          <p:cNvPicPr/>
          <p:nvPr/>
        </p:nvPicPr>
        <p:blipFill>
          <a:blip r:embed="rId2"/>
          <a:stretch/>
        </p:blipFill>
        <p:spPr>
          <a:xfrm>
            <a:off x="3581280" y="2819520"/>
            <a:ext cx="4953240" cy="3714480"/>
          </a:xfrm>
          <a:prstGeom prst="rect">
            <a:avLst/>
          </a:prstGeom>
          <a:ln w="0">
            <a:noFill/>
          </a:ln>
        </p:spPr>
      </p:pic>
      <p:grpSp>
        <p:nvGrpSpPr>
          <p:cNvPr id="395" name="Rectangle 4"/>
          <p:cNvGrpSpPr/>
          <p:nvPr/>
        </p:nvGrpSpPr>
        <p:grpSpPr>
          <a:xfrm>
            <a:off x="328680" y="2736720"/>
            <a:ext cx="3079800" cy="4147560"/>
            <a:chOff x="328680" y="2736720"/>
            <a:chExt cx="3079800" cy="4147560"/>
          </a:xfrm>
        </p:grpSpPr>
        <p:pic>
          <p:nvPicPr>
            <p:cNvPr id="396" name="Rectangle 4" descr=""/>
            <p:cNvPicPr/>
            <p:nvPr/>
          </p:nvPicPr>
          <p:blipFill>
            <a:blip r:embed="rId3"/>
            <a:stretch/>
          </p:blipFill>
          <p:spPr>
            <a:xfrm>
              <a:off x="328680" y="2736720"/>
              <a:ext cx="307980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380880" y="2766960"/>
              <a:ext cx="297180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rbel"/>
                </a:rPr>
                <a:t>Gneiss</a:t>
              </a:r>
              <a:r>
                <a:rPr b="0" lang="en-US" sz="2400" spc="-1" strike="noStrike">
                  <a:solidFill>
                    <a:srgbClr val="ffffff"/>
                  </a:solidFill>
                  <a:latin typeface="Corbel"/>
                </a:rPr>
                <a:t> is foliated metamorphic rock that has a banded appearance and is made up of granular mineral grains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rbel"/>
                </a:rPr>
                <a:t>It typically contains abundant quartz or feldspar minerals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002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Non-Foliat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– mineral grains are not arranged in plains or ban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00" name="Rectangle 4"/>
          <p:cNvGrpSpPr/>
          <p:nvPr/>
        </p:nvGrpSpPr>
        <p:grpSpPr>
          <a:xfrm>
            <a:off x="401760" y="2865600"/>
            <a:ext cx="3079800" cy="4147200"/>
            <a:chOff x="401760" y="2865600"/>
            <a:chExt cx="3079800" cy="4147200"/>
          </a:xfrm>
        </p:grpSpPr>
        <p:pic>
          <p:nvPicPr>
            <p:cNvPr id="401" name="Rectangle 4" descr=""/>
            <p:cNvPicPr/>
            <p:nvPr/>
          </p:nvPicPr>
          <p:blipFill>
            <a:blip r:embed="rId2"/>
            <a:stretch/>
          </p:blipFill>
          <p:spPr>
            <a:xfrm>
              <a:off x="401760" y="2865600"/>
              <a:ext cx="3079800" cy="38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457200" y="2895480"/>
              <a:ext cx="297180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rbel"/>
                </a:rPr>
                <a:t>Marble</a:t>
              </a:r>
              <a:r>
                <a:rPr b="0" lang="en-US" sz="2400" spc="-1" strike="noStrike">
                  <a:solidFill>
                    <a:srgbClr val="ffffff"/>
                  </a:solidFill>
                  <a:latin typeface="Corbel"/>
                </a:rPr>
                <a:t> is a non-foliated metamorphic rock that is produced from the metamorphism of limestone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rbel"/>
                </a:rPr>
                <a:t>It is composed primarily of calcium carbonate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3" name="Picture 2" descr="marble"/>
          <p:cNvPicPr/>
          <p:nvPr/>
        </p:nvPicPr>
        <p:blipFill>
          <a:blip r:embed="rId3"/>
          <a:stretch/>
        </p:blipFill>
        <p:spPr>
          <a:xfrm>
            <a:off x="4038480" y="2971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002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termine if the following rock samples are foliated or non-foliated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6" name="Picture 2" descr="Amphibolite"/>
          <p:cNvPicPr/>
          <p:nvPr/>
        </p:nvPicPr>
        <p:blipFill>
          <a:blip r:embed="rId2"/>
          <a:stretch/>
        </p:blipFill>
        <p:spPr>
          <a:xfrm>
            <a:off x="152280" y="3276720"/>
            <a:ext cx="2895840" cy="217152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6"/>
          <p:cNvSpPr/>
          <p:nvPr/>
        </p:nvSpPr>
        <p:spPr>
          <a:xfrm>
            <a:off x="832680" y="571500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Amphibo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quartzite"/>
          <p:cNvPicPr/>
          <p:nvPr/>
        </p:nvPicPr>
        <p:blipFill>
          <a:blip r:embed="rId3"/>
          <a:stretch/>
        </p:blipFill>
        <p:spPr>
          <a:xfrm>
            <a:off x="3022560" y="3276720"/>
            <a:ext cx="2844720" cy="213336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8"/>
          <p:cNvSpPr/>
          <p:nvPr/>
        </p:nvSpPr>
        <p:spPr>
          <a:xfrm>
            <a:off x="3746160" y="56386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Quartz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6705720" y="5715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Phyll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8" descr="phyllite"/>
          <p:cNvPicPr/>
          <p:nvPr/>
        </p:nvPicPr>
        <p:blipFill>
          <a:blip r:embed="rId4"/>
          <a:stretch/>
        </p:blipFill>
        <p:spPr>
          <a:xfrm>
            <a:off x="5867280" y="3276720"/>
            <a:ext cx="2819520" cy="2114280"/>
          </a:xfrm>
          <a:prstGeom prst="rect">
            <a:avLst/>
          </a:prstGeom>
          <a:ln w="0">
            <a:noFill/>
          </a:ln>
        </p:spPr>
      </p:pic>
      <p:grpSp>
        <p:nvGrpSpPr>
          <p:cNvPr id="412" name="TextBox 12"/>
          <p:cNvGrpSpPr/>
          <p:nvPr/>
        </p:nvGrpSpPr>
        <p:grpSpPr>
          <a:xfrm>
            <a:off x="6424560" y="6218280"/>
            <a:ext cx="1476360" cy="493560"/>
            <a:chOff x="6424560" y="6218280"/>
            <a:chExt cx="1476360" cy="493560"/>
          </a:xfrm>
        </p:grpSpPr>
        <p:pic>
          <p:nvPicPr>
            <p:cNvPr id="413" name="TextBox 12" descr=""/>
            <p:cNvPicPr/>
            <p:nvPr/>
          </p:nvPicPr>
          <p:blipFill>
            <a:blip r:embed="rId5"/>
            <a:stretch/>
          </p:blipFill>
          <p:spPr>
            <a:xfrm>
              <a:off x="6424560" y="6218280"/>
              <a:ext cx="14763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6477120" y="6248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rbel"/>
                </a:rPr>
                <a:t>Folia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 sure to complete your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ypes of Rocks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notes as you view this present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5029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rock is a naturally occurring solid mixture of one or more minerals, or organic mat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ocks are classified by how they are formed, their composition, and textu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ocks change over time through the rock cycl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7" name="Picture 2" descr="C:\Documents and Settings\Liz\Local Settings\Temporary Internet Files\Content.IE5\3QA88QPI\MPj04383960000[1].jpg"/>
          <p:cNvPicPr/>
          <p:nvPr/>
        </p:nvPicPr>
        <p:blipFill>
          <a:blip r:embed="rId2"/>
          <a:stretch/>
        </p:blipFill>
        <p:spPr>
          <a:xfrm>
            <a:off x="5756400" y="1833480"/>
            <a:ext cx="3159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gneous rock begins as magm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gma can form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rock is heate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pressure is release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rock changes composi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gma freezes between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700 °C and 1,250 °C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gma is a mixture of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ny miner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Picture 2" descr="IGNANIM.GIF (230930 bytes)"/>
          <p:cNvPicPr/>
          <p:nvPr/>
        </p:nvPicPr>
        <p:blipFill>
          <a:blip r:embed="rId2"/>
          <a:stretch/>
        </p:blipFill>
        <p:spPr>
          <a:xfrm>
            <a:off x="5943600" y="2590920"/>
            <a:ext cx="2662200" cy="33717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4"/>
          <p:cNvSpPr/>
          <p:nvPr/>
        </p:nvSpPr>
        <p:spPr>
          <a:xfrm>
            <a:off x="5181480" y="632448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fi.edu/fellows/payton/rocks/create/igneou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Felsic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light colored rocks that are rich in elements such as aluminum, potassium, silicon, and sodiu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Mafic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dark colored rocks that are rich in calcium, iron, and magnesium, poor in silic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Coarse-grain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 takes longer to cool, giving mineral crystals more time to grow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Fine-grain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cools quickly with little to no crystal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457200" y="3124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Fel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4"/>
          <p:cNvSpPr/>
          <p:nvPr/>
        </p:nvSpPr>
        <p:spPr>
          <a:xfrm>
            <a:off x="380880" y="4724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Ma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2286000" y="1752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Coarse-Gr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6"/>
          <p:cNvSpPr/>
          <p:nvPr/>
        </p:nvSpPr>
        <p:spPr>
          <a:xfrm>
            <a:off x="5562720" y="17524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Fine-Gr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granite"/>
          <p:cNvPicPr/>
          <p:nvPr/>
        </p:nvPicPr>
        <p:blipFill>
          <a:blip r:embed="rId2"/>
          <a:stretch/>
        </p:blipFill>
        <p:spPr>
          <a:xfrm>
            <a:off x="1752480" y="2286000"/>
            <a:ext cx="2845080" cy="2133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rhyolite"/>
          <p:cNvPicPr/>
          <p:nvPr/>
        </p:nvPicPr>
        <p:blipFill>
          <a:blip r:embed="rId3"/>
          <a:stretch/>
        </p:blipFill>
        <p:spPr>
          <a:xfrm>
            <a:off x="4876920" y="22096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gabbro"/>
          <p:cNvPicPr/>
          <p:nvPr/>
        </p:nvPicPr>
        <p:blipFill>
          <a:blip r:embed="rId4"/>
          <a:stretch/>
        </p:blipFill>
        <p:spPr>
          <a:xfrm>
            <a:off x="1828800" y="4572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basalt"/>
          <p:cNvPicPr/>
          <p:nvPr/>
        </p:nvPicPr>
        <p:blipFill>
          <a:blip r:embed="rId5"/>
          <a:stretch/>
        </p:blipFill>
        <p:spPr>
          <a:xfrm>
            <a:off x="4927680" y="4572000"/>
            <a:ext cx="284472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23" name="Rectangle 13"/>
          <p:cNvGrpSpPr/>
          <p:nvPr/>
        </p:nvGrpSpPr>
        <p:grpSpPr>
          <a:xfrm>
            <a:off x="2534400" y="4011480"/>
            <a:ext cx="1044720" cy="474840"/>
            <a:chOff x="2534400" y="4011480"/>
            <a:chExt cx="1044720" cy="474840"/>
          </a:xfrm>
        </p:grpSpPr>
        <p:pic>
          <p:nvPicPr>
            <p:cNvPr id="324" name="Rectangle 13" descr=""/>
            <p:cNvPicPr/>
            <p:nvPr/>
          </p:nvPicPr>
          <p:blipFill>
            <a:blip r:embed="rId6"/>
            <a:stretch/>
          </p:blipFill>
          <p:spPr>
            <a:xfrm>
              <a:off x="2535120" y="4011480"/>
              <a:ext cx="104328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534400" y="40384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rbel"/>
                </a:rPr>
                <a:t>Gran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Rectangle 15"/>
          <p:cNvGrpSpPr/>
          <p:nvPr/>
        </p:nvGrpSpPr>
        <p:grpSpPr>
          <a:xfrm>
            <a:off x="2631960" y="6218280"/>
            <a:ext cx="1081080" cy="480960"/>
            <a:chOff x="2631960" y="6218280"/>
            <a:chExt cx="1081080" cy="480960"/>
          </a:xfrm>
        </p:grpSpPr>
        <p:pic>
          <p:nvPicPr>
            <p:cNvPr id="327" name="Rectangle 15" descr=""/>
            <p:cNvPicPr/>
            <p:nvPr/>
          </p:nvPicPr>
          <p:blipFill>
            <a:blip r:embed="rId7"/>
            <a:stretch/>
          </p:blipFill>
          <p:spPr>
            <a:xfrm>
              <a:off x="2633760" y="6218280"/>
              <a:ext cx="10792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631960" y="624852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rbel"/>
                </a:rPr>
                <a:t>Gabbr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Rectangle 16"/>
          <p:cNvGrpSpPr/>
          <p:nvPr/>
        </p:nvGrpSpPr>
        <p:grpSpPr>
          <a:xfrm>
            <a:off x="5815080" y="6218280"/>
            <a:ext cx="963720" cy="480960"/>
            <a:chOff x="5815080" y="6218280"/>
            <a:chExt cx="963720" cy="480960"/>
          </a:xfrm>
        </p:grpSpPr>
        <p:pic>
          <p:nvPicPr>
            <p:cNvPr id="330" name="Rectangle 16" descr=""/>
            <p:cNvPicPr/>
            <p:nvPr/>
          </p:nvPicPr>
          <p:blipFill>
            <a:blip r:embed="rId8"/>
            <a:stretch/>
          </p:blipFill>
          <p:spPr>
            <a:xfrm>
              <a:off x="5815080" y="6218280"/>
              <a:ext cx="9637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5818680" y="624852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rbel"/>
                </a:rPr>
                <a:t>Basal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Rectangle 17"/>
          <p:cNvGrpSpPr/>
          <p:nvPr/>
        </p:nvGrpSpPr>
        <p:grpSpPr>
          <a:xfrm>
            <a:off x="5802120" y="4022640"/>
            <a:ext cx="1188000" cy="476280"/>
            <a:chOff x="5802120" y="4022640"/>
            <a:chExt cx="1188000" cy="476280"/>
          </a:xfrm>
        </p:grpSpPr>
        <p:pic>
          <p:nvPicPr>
            <p:cNvPr id="333" name="Rectangle 17" descr=""/>
            <p:cNvPicPr/>
            <p:nvPr/>
          </p:nvPicPr>
          <p:blipFill>
            <a:blip r:embed="rId9"/>
            <a:stretch/>
          </p:blipFill>
          <p:spPr>
            <a:xfrm>
              <a:off x="5803920" y="4022640"/>
              <a:ext cx="1182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802120" y="4049640"/>
              <a:ext cx="11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rbel"/>
                </a:rPr>
                <a:t>Rhyoli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228240" y="175212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Intrusive Igneous Rock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magma pushes into surrounding rock below the Earth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 surf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Extrusive Rock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forms when magma erupts onto the Earth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 surface (lava),  cools quickly with very small or no crystals form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2" descr="http://www.windows.ucar.edu/earth/geology/images/batholith_sm.gif"/>
          <p:cNvPicPr/>
          <p:nvPr/>
        </p:nvPicPr>
        <p:blipFill>
          <a:blip r:embed="rId2"/>
          <a:stretch/>
        </p:blipFill>
        <p:spPr>
          <a:xfrm>
            <a:off x="6095880" y="1523880"/>
            <a:ext cx="2743200" cy="2167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http://www.windows.ucar.edu/earth/images/Stromboli_1_small.jpg"/>
          <p:cNvPicPr/>
          <p:nvPr/>
        </p:nvPicPr>
        <p:blipFill>
          <a:blip r:embed="rId3"/>
          <a:stretch/>
        </p:blipFill>
        <p:spPr>
          <a:xfrm>
            <a:off x="6400800" y="3809880"/>
            <a:ext cx="2181240" cy="28101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5"/>
          <p:cNvSpPr/>
          <p:nvPr/>
        </p:nvSpPr>
        <p:spPr>
          <a:xfrm>
            <a:off x="914400" y="6381720"/>
            <a:ext cx="495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windows.ucar.edu/tour/link=/earth/geology/ig_intrusive.html&amp;edu=high&amp;fr=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1"/>
          <p:cNvSpPr/>
          <p:nvPr/>
        </p:nvSpPr>
        <p:spPr>
          <a:xfrm>
            <a:off x="-2925000" y="-2636640"/>
            <a:ext cx="149940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428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55555"/>
                </a:solidFill>
                <a:latin typeface="Arial"/>
                <a:ea typeface="Arial"/>
              </a:rPr>
              <a:t>Obsidi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55555"/>
                </a:solidFill>
                <a:latin typeface="Arial"/>
                <a:ea typeface="Arial"/>
              </a:rPr>
              <a:t>What is Obsidian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idian is a dark-colored volcanic glass that forms from the very rapid cooling of molten rock material. It cools so rapidly that crystals do not form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obsidian"/>
          <p:cNvPicPr/>
          <p:nvPr/>
        </p:nvPicPr>
        <p:blipFill>
          <a:blip r:embed="rId2"/>
          <a:stretch/>
        </p:blipFill>
        <p:spPr>
          <a:xfrm>
            <a:off x="380880" y="25909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4"/>
          <p:cNvSpPr/>
          <p:nvPr/>
        </p:nvSpPr>
        <p:spPr>
          <a:xfrm>
            <a:off x="304920" y="16002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Obsidian is a dark-colored volcanic glass that forms from the very rapid cooling of molten rock material. It cools so rapidly that crystals do not form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TextBox 5"/>
          <p:cNvGrpSpPr/>
          <p:nvPr/>
        </p:nvGrpSpPr>
        <p:grpSpPr>
          <a:xfrm>
            <a:off x="5815080" y="2560680"/>
            <a:ext cx="3232080" cy="3157560"/>
            <a:chOff x="5815080" y="2560680"/>
            <a:chExt cx="3232080" cy="3157560"/>
          </a:xfrm>
        </p:grpSpPr>
        <p:pic>
          <p:nvPicPr>
            <p:cNvPr id="345" name="TextBox 5" descr=""/>
            <p:cNvPicPr/>
            <p:nvPr/>
          </p:nvPicPr>
          <p:blipFill>
            <a:blip r:embed="rId3"/>
            <a:stretch/>
          </p:blipFill>
          <p:spPr>
            <a:xfrm>
              <a:off x="5815080" y="2560680"/>
              <a:ext cx="3232080" cy="31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867280" y="2590920"/>
              <a:ext cx="31244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rbel"/>
                </a:rPr>
                <a:t>Is this rock Felsic or Mafic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rbel"/>
                </a:rPr>
                <a:t>Is it fine-grained or coarse-graine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rbel"/>
                </a:rPr>
                <a:t>Is this rock Intrusive or  Extrusiv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TextBox 6"/>
          <p:cNvGrpSpPr/>
          <p:nvPr/>
        </p:nvGrpSpPr>
        <p:grpSpPr>
          <a:xfrm>
            <a:off x="5735520" y="6218280"/>
            <a:ext cx="3311640" cy="450720"/>
            <a:chOff x="5735520" y="6218280"/>
            <a:chExt cx="3311640" cy="450720"/>
          </a:xfrm>
        </p:grpSpPr>
        <p:pic>
          <p:nvPicPr>
            <p:cNvPr id="348" name="TextBox 6" descr=""/>
            <p:cNvPicPr/>
            <p:nvPr/>
          </p:nvPicPr>
          <p:blipFill>
            <a:blip r:embed="rId4"/>
            <a:stretch/>
          </p:blipFill>
          <p:spPr>
            <a:xfrm>
              <a:off x="5735520" y="6218280"/>
              <a:ext cx="33116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5791320" y="624852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rbel"/>
                </a:rPr>
                <a:t>Mafic, fine grained, extrus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SEDIANIM.GIF (205851 bytes)"/>
          <p:cNvPicPr/>
          <p:nvPr/>
        </p:nvPicPr>
        <p:blipFill>
          <a:blip r:embed="rId2"/>
          <a:stretch/>
        </p:blipFill>
        <p:spPr>
          <a:xfrm>
            <a:off x="6019920" y="2057400"/>
            <a:ext cx="2948040" cy="359100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3"/>
          <p:cNvSpPr/>
          <p:nvPr/>
        </p:nvSpPr>
        <p:spPr>
          <a:xfrm>
            <a:off x="5257800" y="609588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fi.edu/fellows/payton/rocks/create/sediment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ontent Placeholder 2"/>
          <p:cNvSpPr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dimentary rock is formed by ero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diments are moved from                                 one place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diments are deposited in                           layers, with the older 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n the bot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layers become compacted                         and cemented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55" name="Content Placeholder 2"/>
          <p:cNvSpPr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345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dimentary Rocks are formed at or near the   Earth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 heat and pressure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Strata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– layers of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Stratificatio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– the process in                       which sedimentary rocks are                   arranged in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C:\Documents and Settings\Liz\Local Settings\Temporary Internet Files\Content.IE5\W49KQFHU\MPj04033980000[1].jpg"/>
          <p:cNvPicPr/>
          <p:nvPr/>
        </p:nvPicPr>
        <p:blipFill>
          <a:blip r:embed="rId2"/>
          <a:stretch/>
        </p:blipFill>
        <p:spPr>
          <a:xfrm>
            <a:off x="6172200" y="2438280"/>
            <a:ext cx="2666880" cy="3998880"/>
          </a:xfrm>
          <a:prstGeom prst="rect">
            <a:avLst/>
          </a:prstGeom>
          <a:ln w="0">
            <a:noFill/>
          </a:ln>
        </p:spPr>
      </p:pic>
      <p:cxnSp>
        <p:nvCxnSpPr>
          <p:cNvPr id="357" name="Straight Arrow Connector 6"/>
          <p:cNvCxnSpPr/>
          <p:nvPr/>
        </p:nvCxnSpPr>
        <p:spPr>
          <a:xfrm flipV="1">
            <a:off x="4876920" y="3657240"/>
            <a:ext cx="2210400" cy="838800"/>
          </a:xfrm>
          <a:prstGeom prst="straightConnector1">
            <a:avLst/>
          </a:prstGeom>
          <a:ln cap="rnd" w="25560">
            <a:solidFill>
              <a:srgbClr val="f0a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22:18:40Z</dcterms:created>
  <dc:creator>Liz</dc:creator>
  <dc:description/>
  <dc:language>en-US</dc:language>
  <cp:lastModifiedBy>austen cory</cp:lastModifiedBy>
  <dcterms:modified xsi:type="dcterms:W3CDTF">2013-10-30T21:47:37Z</dcterms:modified>
  <cp:revision>35</cp:revision>
  <dc:subject/>
  <dc:title>Types of Rock</dc:title>
</cp:coreProperties>
</file>