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2.gif" ContentType="image/gif"/>
  <Override PartName="/ppt/media/image17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9.jpeg" ContentType="image/jpeg"/>
  <Override PartName="/ppt/media/image11.png" ContentType="image/png"/>
  <Override PartName="/ppt/media/image26.png" ContentType="image/png"/>
  <Override PartName="/ppt/media/image30.png" ContentType="image/png"/>
  <Override PartName="/ppt/media/image29.jpeg" ContentType="image/jpeg"/>
  <Override PartName="/ppt/media/image31.png" ContentType="image/png"/>
  <Override PartName="/ppt/media/image12.png" ContentType="image/png"/>
  <Override PartName="/ppt/media/image42.jpeg" ContentType="image/jpeg"/>
  <Override PartName="/ppt/media/image32.gif" ContentType="image/gif"/>
  <Override PartName="/ppt/media/image28.png" ContentType="image/png"/>
  <Override PartName="/ppt/media/image7.jpeg" ContentType="image/jpeg"/>
  <Override PartName="/ppt/media/image20.png" ContentType="image/png"/>
  <Override PartName="/ppt/media/image36.png" ContentType="image/png"/>
  <Override PartName="/ppt/media/image41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6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8.jpeg" ContentType="image/jpeg"/>
  <Override PartName="/ppt/media/image39.jpeg" ContentType="image/jpeg"/>
  <Override PartName="/ppt/media/image3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2F5-30E5-4BFA-A96D-89734ED1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C92-2A37-409C-ABB8-8E9FE451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7E2-9302-403D-94C2-6B1B2812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9BF-9E5B-48BA-AE15-E39DFEC6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40F6-DCFD-4B32-8151-813B05DA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37CC-DD3A-4CB3-AFD3-6D7E2BB4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1899-07E4-4BDC-ADE6-AABCAE06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4C69-D2E1-4A52-8D7D-6E18F302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AFF8-A834-4582-A76E-B9AD0E21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8CBC-E8E6-490E-90A4-B96A3404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E5A0-E336-4E75-AF23-6BF93F8D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67E1-FD72-4DC9-9A49-510595DB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61E7-526A-4A1F-B213-B1094ECA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C15C-42A3-4F05-951F-C4359ADF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9B58-49AF-4A17-AEF5-6F8A7051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98D9-76CE-48A2-97B2-594BF0B8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E632-6EB1-4AD5-8172-0A2C7B3E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81FE8-6A3D-4FA7-8E0C-3A0DA48D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18A96-1C0F-4BA7-89B2-CB97CF72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4B1CF-5688-4737-85E5-E9A0B7AB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BCE30-DDB0-4E87-9E2C-1B60862F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58CAF-152E-42FC-9E09-5CD3F0A5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D3C-F4F3-43AD-B0CB-18D90EDE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CB215-A7A0-42B0-94B9-A6CDFDEA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2008C-B6C5-43F9-84F2-0BF4FBBD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1E4B6-C2AF-443D-BFC7-A99EF995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938DA-5A10-47AB-8561-C9D2AFBF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71FC0-F1BF-4B99-ACCA-8FDBC32B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28A47-E014-4DD7-933D-A4A309EF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6E1C2-ABD4-4FFE-B2F8-3BDDD029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50546-3552-4256-B7AA-39E16B3F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4CD2F-E64A-4411-9A92-A255EDC1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07EB5-6D05-4F65-B589-CDDA9356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531-6700-4059-A246-EEEF678F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23FB0-45A3-4271-8D3B-ACD7741C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CC1CB-95DA-4A9D-B242-D3E2F40B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5CD78-5DA2-4882-81AA-3418E76C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284CE-04B1-4AF4-B600-6C00BDAE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23996-DA46-41D3-A5EA-AF1275C3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4CC77-51A2-47B4-B16B-20F452E0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A1631-A196-4FFC-9F35-9DB62762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96B48-06A1-4517-BBA7-254AAD15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7EA2D-A360-4EAA-A49B-DB65C056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20BDC-9E4B-4802-B713-B37A6DE0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C50-99C7-4203-8DF4-5EB4C8EF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3EA34-2598-4DFC-81D4-112AB834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F184D-8DAE-40BE-BFAF-A7B60A02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F2977-E2C8-40EE-B6CF-DCDE8B2D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CAE3A-B43E-41C4-AF05-42E74DDC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8DB10-2EF8-4C93-9B0E-89FAA5DB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DC8C1-1312-453F-B1D8-6624F763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E18C0-DAA7-4B18-AD2A-70603034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B591C-916F-41B6-A012-B44D5DE3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E39B6-3FB7-4BFA-82A7-E0839B1B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3A0AD-070C-4D93-8BAF-109B79FE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B27A-A245-45AE-BC05-E55B29E7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D035B-AB60-40F5-BDAC-13AD58A8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999D3-4410-43C4-BDD0-26691010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9FE3A-D130-4ACA-BA0D-E9BC4C9C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01724-E1E4-458C-B9BB-B53C9AF5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16498-8D95-4602-9D3E-206EAE0F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2E266-88BD-4B4B-A9F1-869232F7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82E32-1D18-416C-9DB6-861B51D1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3A54F-0ED6-45FA-A5D9-3AD79453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D760A-175F-44E0-A566-90CE4D27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50476-12D2-4268-9444-0805BAB1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A66-292F-4384-8578-6A868D3B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0DC83-236D-4B4B-B3D8-0519C597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D205B-1078-4242-9A30-CEAABCDC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15706-647C-46CA-8AF8-5B231938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DDC0A-5B8C-42EE-9768-59F3260F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53D80-B7C6-4062-9EF7-494AF631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4A448-D5FF-44E2-B873-198D6D6B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EA25D-1D57-4F93-AD0D-CEA24FE9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8A3F2-53E8-4ABC-A1A5-CE4C12A7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60067-AA26-4877-AC46-00BD9F0F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585A3-0F02-4A91-AA84-B4DE53AF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CA9-2779-4023-AF75-2A227DA5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87076-5EEC-4506-AC0C-8F30438A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84852-3AAD-42C6-92FD-7E8FB298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7F21F-1F16-4ADD-9083-CBE8CFEB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77F15-6395-435F-B7E9-C6583B41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8917F-FDF5-4BE8-A2A9-EE35510C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165-EAC8-433E-9E47-C83681D5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BD30-30FB-4089-BBF3-3676D399A17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73F4-183D-4C56-9E28-12279D08A13C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7C57-2A91-45D2-B869-B0C746BFED4E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C7D2-13B6-4EC0-A00B-64D44D1D351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D1C1-E094-4CDF-B352-E90FB430C7C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21F6-2D90-498C-89D9-BBBF72DCF41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DB8B-A147-4DE3-ABC4-C3F1E7643AF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2560" y="3352680"/>
            <a:ext cx="8083440" cy="16765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09120" y="5181480"/>
            <a:ext cx="807732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iz LaRosa http://www.middleschoolscience.com 20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mages from Geology.com unless otherwise note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59" name="Content Placeholder 2"/>
          <p:cNvSpPr/>
          <p:nvPr/>
        </p:nvSpPr>
        <p:spPr>
          <a:xfrm>
            <a:off x="457200" y="1600200"/>
            <a:ext cx="82296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Clastic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– made of fragments of rock cemented together with calcite or quar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breccia"/>
          <p:cNvPicPr/>
          <p:nvPr/>
        </p:nvPicPr>
        <p:blipFill>
          <a:blip r:embed="rId2"/>
          <a:stretch/>
        </p:blipFill>
        <p:spPr>
          <a:xfrm>
            <a:off x="3733920" y="2971800"/>
            <a:ext cx="4724280" cy="3543480"/>
          </a:xfrm>
          <a:prstGeom prst="rect">
            <a:avLst/>
          </a:prstGeom>
          <a:ln w="0">
            <a:noFill/>
          </a:ln>
        </p:spPr>
      </p:pic>
      <p:grpSp>
        <p:nvGrpSpPr>
          <p:cNvPr id="361" name="Rectangle 4"/>
          <p:cNvGrpSpPr/>
          <p:nvPr/>
        </p:nvGrpSpPr>
        <p:grpSpPr>
          <a:xfrm>
            <a:off x="249120" y="2687760"/>
            <a:ext cx="3311640" cy="4699440"/>
            <a:chOff x="249120" y="2687760"/>
            <a:chExt cx="3311640" cy="4699440"/>
          </a:xfrm>
        </p:grpSpPr>
        <p:pic>
          <p:nvPicPr>
            <p:cNvPr id="362" name="Rectangle 4" descr=""/>
            <p:cNvPicPr/>
            <p:nvPr/>
          </p:nvPicPr>
          <p:blipFill>
            <a:blip r:embed="rId3"/>
            <a:stretch/>
          </p:blipFill>
          <p:spPr>
            <a:xfrm>
              <a:off x="249120" y="2687760"/>
              <a:ext cx="331164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304920" y="2719440"/>
              <a:ext cx="320040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00"/>
                  </a:solidFill>
                  <a:uFillTx/>
                  <a:latin typeface="Corbel"/>
                </a:rPr>
                <a:t>Breccia</a:t>
              </a:r>
              <a:r>
                <a:rPr b="0" lang="en-US" sz="2000" spc="-1" strike="noStrike">
                  <a:solidFill>
                    <a:srgbClr val="ffffff"/>
                  </a:solidFill>
                  <a:latin typeface="Corbel"/>
                </a:rPr>
                <a:t> is a term most often used for clastic sedimentary rocks that are composed of large angular fragments (over two millimeters in diameter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rbel"/>
                </a:rPr>
                <a:t>The spaces between the large angular fragments can be filled with a matrix of smaller particles or a mineral cement that binds the rock </a:t>
              </a: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together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65" name="Content Placeholder 2"/>
          <p:cNvSpPr/>
          <p:nvPr/>
        </p:nvSpPr>
        <p:spPr>
          <a:xfrm>
            <a:off x="457200" y="1676520"/>
            <a:ext cx="822960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Chemical sedimentary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minerals crystallize out of solution to becom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limestone"/>
          <p:cNvPicPr/>
          <p:nvPr/>
        </p:nvPicPr>
        <p:blipFill>
          <a:blip r:embed="rId2"/>
          <a:stretch/>
        </p:blipFill>
        <p:spPr>
          <a:xfrm>
            <a:off x="3809880" y="2971800"/>
            <a:ext cx="4724640" cy="3543480"/>
          </a:xfrm>
          <a:prstGeom prst="rect">
            <a:avLst/>
          </a:prstGeom>
          <a:ln w="0">
            <a:noFill/>
          </a:ln>
        </p:spPr>
      </p:pic>
      <p:grpSp>
        <p:nvGrpSpPr>
          <p:cNvPr id="367" name="Rectangle 4"/>
          <p:cNvGrpSpPr/>
          <p:nvPr/>
        </p:nvGrpSpPr>
        <p:grpSpPr>
          <a:xfrm>
            <a:off x="249120" y="2865600"/>
            <a:ext cx="3384720" cy="3727440"/>
            <a:chOff x="249120" y="2865600"/>
            <a:chExt cx="3384720" cy="3727440"/>
          </a:xfrm>
        </p:grpSpPr>
        <p:pic>
          <p:nvPicPr>
            <p:cNvPr id="368" name="Rectangle 4" descr=""/>
            <p:cNvPicPr/>
            <p:nvPr/>
          </p:nvPicPr>
          <p:blipFill>
            <a:blip r:embed="rId3"/>
            <a:stretch/>
          </p:blipFill>
          <p:spPr>
            <a:xfrm>
              <a:off x="249120" y="2865600"/>
              <a:ext cx="3384720" cy="32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04920" y="2895480"/>
              <a:ext cx="3276360" cy="36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Corbel"/>
                </a:rPr>
                <a:t>Limestone</a:t>
              </a: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 is a sedimentary rock composed primarily of calcium carbonate (CaCO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rbel"/>
                </a:rPr>
                <a:t>3</a:t>
              </a: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) in the form of the mineral calcite. It most commonly forms in clear, warm, shallow marine water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It is usually an organic sedimentary rock that forms from the accumulation of shell, coral, algal and fecal debri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71" name="Content Placeholder 2"/>
          <p:cNvSpPr/>
          <p:nvPr/>
        </p:nvSpPr>
        <p:spPr>
          <a:xfrm>
            <a:off x="457200" y="1600200"/>
            <a:ext cx="82296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Organic sedimentary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remains of plants 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bituminous coal"/>
          <p:cNvPicPr/>
          <p:nvPr/>
        </p:nvPicPr>
        <p:blipFill>
          <a:blip r:embed="rId2"/>
          <a:stretch/>
        </p:blipFill>
        <p:spPr>
          <a:xfrm>
            <a:off x="3352680" y="2895480"/>
            <a:ext cx="5334120" cy="3619800"/>
          </a:xfrm>
          <a:prstGeom prst="rect">
            <a:avLst/>
          </a:prstGeom>
          <a:ln w="0">
            <a:noFill/>
          </a:ln>
        </p:spPr>
      </p:pic>
      <p:grpSp>
        <p:nvGrpSpPr>
          <p:cNvPr id="373" name="Rectangle 4"/>
          <p:cNvGrpSpPr/>
          <p:nvPr/>
        </p:nvGrpSpPr>
        <p:grpSpPr>
          <a:xfrm>
            <a:off x="249120" y="2865600"/>
            <a:ext cx="2854440" cy="3803400"/>
            <a:chOff x="249120" y="2865600"/>
            <a:chExt cx="2854440" cy="3803400"/>
          </a:xfrm>
        </p:grpSpPr>
        <p:pic>
          <p:nvPicPr>
            <p:cNvPr id="374" name="Rectangle 4" descr=""/>
            <p:cNvPicPr/>
            <p:nvPr/>
          </p:nvPicPr>
          <p:blipFill>
            <a:blip r:embed="rId3"/>
            <a:stretch/>
          </p:blipFill>
          <p:spPr>
            <a:xfrm>
              <a:off x="249120" y="2865600"/>
              <a:ext cx="2854440" cy="38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304920" y="2895480"/>
              <a:ext cx="274320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Corbel"/>
                </a:rPr>
                <a:t>Coal</a:t>
              </a: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 is an organic sedimentary rock that forms from the accumulation and preservation of plant materials, usually in a swamp environment.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rbel"/>
                </a:rPr>
                <a:t>Coal is a combustible rock and along with oil and natural gas it is one of the three most important fossil fuels.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METAANIM.GIF (355469 bytes)"/>
          <p:cNvPicPr/>
          <p:nvPr/>
        </p:nvPicPr>
        <p:blipFill>
          <a:blip r:embed="rId2"/>
          <a:stretch/>
        </p:blipFill>
        <p:spPr>
          <a:xfrm>
            <a:off x="5867280" y="1981080"/>
            <a:ext cx="3024360" cy="35974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3"/>
          <p:cNvSpPr/>
          <p:nvPr/>
        </p:nvSpPr>
        <p:spPr>
          <a:xfrm>
            <a:off x="5257800" y="6172200"/>
            <a:ext cx="388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fi.edu/fellows/payton/rocks/create/metamorph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609480" y="2133720"/>
            <a:ext cx="525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a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ning to 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a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nges with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pressure, but remain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a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ually takes place deep 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6840" y="1600200"/>
            <a:ext cx="8381880" cy="1806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Contact Metamorphism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– heated by nearby magm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creased temperature changes the composition of the rock, minerals are changed into new minera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2" name="Picture 2" descr="hornfels"/>
          <p:cNvPicPr/>
          <p:nvPr/>
        </p:nvPicPr>
        <p:blipFill>
          <a:blip r:embed="rId2"/>
          <a:stretch/>
        </p:blipFill>
        <p:spPr>
          <a:xfrm>
            <a:off x="990720" y="2971800"/>
            <a:ext cx="3124080" cy="2343240"/>
          </a:xfrm>
          <a:prstGeom prst="rect">
            <a:avLst/>
          </a:prstGeom>
          <a:ln w="0">
            <a:noFill/>
          </a:ln>
        </p:spPr>
      </p:pic>
      <p:grpSp>
        <p:nvGrpSpPr>
          <p:cNvPr id="383" name="Rectangle 4"/>
          <p:cNvGrpSpPr/>
          <p:nvPr/>
        </p:nvGrpSpPr>
        <p:grpSpPr>
          <a:xfrm>
            <a:off x="96840" y="5303880"/>
            <a:ext cx="5060880" cy="1587240"/>
            <a:chOff x="96840" y="5303880"/>
            <a:chExt cx="5060880" cy="1587240"/>
          </a:xfrm>
        </p:grpSpPr>
        <p:pic>
          <p:nvPicPr>
            <p:cNvPr id="384" name="Rectangle 4" descr=""/>
            <p:cNvPicPr/>
            <p:nvPr/>
          </p:nvPicPr>
          <p:blipFill>
            <a:blip r:embed="rId3"/>
            <a:stretch/>
          </p:blipFill>
          <p:spPr>
            <a:xfrm>
              <a:off x="96840" y="5303880"/>
              <a:ext cx="506088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152280" y="5334120"/>
              <a:ext cx="4953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Corbel"/>
                </a:rPr>
                <a:t>Hornfels</a:t>
              </a: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 is a fine-grained non-foliated metamorphic rock produced by contact metamorphis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6" name="Picture 4" descr="http://www.windows.ucar.edu/earth/geology/images/meta_contact2.gif"/>
          <p:cNvPicPr/>
          <p:nvPr/>
        </p:nvPicPr>
        <p:blipFill>
          <a:blip r:embed="rId4"/>
          <a:stretch/>
        </p:blipFill>
        <p:spPr>
          <a:xfrm>
            <a:off x="5257800" y="30481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6"/>
          <p:cNvSpPr/>
          <p:nvPr/>
        </p:nvSpPr>
        <p:spPr>
          <a:xfrm>
            <a:off x="3886200" y="6611760"/>
            <a:ext cx="5181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windows.ucar.edu/tour/link=/earth/geology/meta_contact.html&amp;edu=h igh&amp;fr=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304560" y="1774440"/>
            <a:ext cx="5638680" cy="4778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Regional Metamorphism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pressure builds up in rocks that is deep within the Eart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arge pieces of the Earth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 crust collide and the rock is deformed and chemically changed by heat and pressu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Picture 2" descr="http://www.windows.ucar.edu/earth/geology/images/regional_meta.gif"/>
          <p:cNvPicPr/>
          <p:nvPr/>
        </p:nvPicPr>
        <p:blipFill>
          <a:blip r:embed="rId2"/>
          <a:stretch/>
        </p:blipFill>
        <p:spPr>
          <a:xfrm>
            <a:off x="6172200" y="1676520"/>
            <a:ext cx="2514600" cy="502920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6"/>
          <p:cNvSpPr/>
          <p:nvPr/>
        </p:nvSpPr>
        <p:spPr>
          <a:xfrm>
            <a:off x="304920" y="6400800"/>
            <a:ext cx="556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windows.ucar.edu/tour/link=/earth/geology/meta_regional.html&amp;edu=high&amp;fr=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Foliat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-  contain aligned grains of flat miner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4" name="Picture 2" descr="gneiss"/>
          <p:cNvPicPr/>
          <p:nvPr/>
        </p:nvPicPr>
        <p:blipFill>
          <a:blip r:embed="rId2"/>
          <a:stretch/>
        </p:blipFill>
        <p:spPr>
          <a:xfrm>
            <a:off x="3581280" y="2819520"/>
            <a:ext cx="4953240" cy="3714480"/>
          </a:xfrm>
          <a:prstGeom prst="rect">
            <a:avLst/>
          </a:prstGeom>
          <a:ln w="0">
            <a:noFill/>
          </a:ln>
        </p:spPr>
      </p:pic>
      <p:grpSp>
        <p:nvGrpSpPr>
          <p:cNvPr id="395" name="Rectangle 4"/>
          <p:cNvGrpSpPr/>
          <p:nvPr/>
        </p:nvGrpSpPr>
        <p:grpSpPr>
          <a:xfrm>
            <a:off x="328680" y="2736720"/>
            <a:ext cx="3079800" cy="4147560"/>
            <a:chOff x="328680" y="2736720"/>
            <a:chExt cx="3079800" cy="4147560"/>
          </a:xfrm>
        </p:grpSpPr>
        <p:pic>
          <p:nvPicPr>
            <p:cNvPr id="396" name="Rectangle 4" descr=""/>
            <p:cNvPicPr/>
            <p:nvPr/>
          </p:nvPicPr>
          <p:blipFill>
            <a:blip r:embed="rId3"/>
            <a:stretch/>
          </p:blipFill>
          <p:spPr>
            <a:xfrm>
              <a:off x="328680" y="2736720"/>
              <a:ext cx="307980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380880" y="2766960"/>
              <a:ext cx="297180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Gneiss</a:t>
              </a: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 is foliated metamorphic rock that has a banded appearance and is made up of granular mineral grain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It typically contains abundant quartz or feldspar mineral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Non-Foliat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– mineral grains are not arranged in plains or ban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00" name="Rectangle 4"/>
          <p:cNvGrpSpPr/>
          <p:nvPr/>
        </p:nvGrpSpPr>
        <p:grpSpPr>
          <a:xfrm>
            <a:off x="401760" y="2865600"/>
            <a:ext cx="3079800" cy="4147200"/>
            <a:chOff x="401760" y="2865600"/>
            <a:chExt cx="3079800" cy="4147200"/>
          </a:xfrm>
        </p:grpSpPr>
        <p:pic>
          <p:nvPicPr>
            <p:cNvPr id="401" name="Rectangle 4" descr=""/>
            <p:cNvPicPr/>
            <p:nvPr/>
          </p:nvPicPr>
          <p:blipFill>
            <a:blip r:embed="rId2"/>
            <a:stretch/>
          </p:blipFill>
          <p:spPr>
            <a:xfrm>
              <a:off x="401760" y="2865600"/>
              <a:ext cx="3079800" cy="38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457200" y="2895480"/>
              <a:ext cx="297180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Marble</a:t>
              </a: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 is a non-foliated metamorphic rock that is produced from the metamorphism of limestone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rbel"/>
                </a:rPr>
                <a:t>It is composed primarily of calcium carbonate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3" name="Picture 2" descr="marble"/>
          <p:cNvPicPr/>
          <p:nvPr/>
        </p:nvPicPr>
        <p:blipFill>
          <a:blip r:embed="rId3"/>
          <a:stretch/>
        </p:blipFill>
        <p:spPr>
          <a:xfrm>
            <a:off x="4038480" y="2971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termine if the following rock samples are foliated or non-foliated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6" name="Picture 2" descr="Amphibolite"/>
          <p:cNvPicPr/>
          <p:nvPr/>
        </p:nvPicPr>
        <p:blipFill>
          <a:blip r:embed="rId2"/>
          <a:stretch/>
        </p:blipFill>
        <p:spPr>
          <a:xfrm>
            <a:off x="152280" y="3276720"/>
            <a:ext cx="2895840" cy="217152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6"/>
          <p:cNvSpPr/>
          <p:nvPr/>
        </p:nvSpPr>
        <p:spPr>
          <a:xfrm>
            <a:off x="832680" y="571500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Amphibo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quartzite"/>
          <p:cNvPicPr/>
          <p:nvPr/>
        </p:nvPicPr>
        <p:blipFill>
          <a:blip r:embed="rId3"/>
          <a:stretch/>
        </p:blipFill>
        <p:spPr>
          <a:xfrm>
            <a:off x="3022560" y="3276720"/>
            <a:ext cx="2844720" cy="213336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8"/>
          <p:cNvSpPr/>
          <p:nvPr/>
        </p:nvSpPr>
        <p:spPr>
          <a:xfrm>
            <a:off x="3746160" y="5638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Quartz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6705720" y="5715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Phyll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8" descr="phyllite"/>
          <p:cNvPicPr/>
          <p:nvPr/>
        </p:nvPicPr>
        <p:blipFill>
          <a:blip r:embed="rId4"/>
          <a:stretch/>
        </p:blipFill>
        <p:spPr>
          <a:xfrm>
            <a:off x="5867280" y="3276720"/>
            <a:ext cx="2819520" cy="2114280"/>
          </a:xfrm>
          <a:prstGeom prst="rect">
            <a:avLst/>
          </a:prstGeom>
          <a:ln w="0">
            <a:noFill/>
          </a:ln>
        </p:spPr>
      </p:pic>
      <p:grpSp>
        <p:nvGrpSpPr>
          <p:cNvPr id="412" name="TextBox 12"/>
          <p:cNvGrpSpPr/>
          <p:nvPr/>
        </p:nvGrpSpPr>
        <p:grpSpPr>
          <a:xfrm>
            <a:off x="6424560" y="6218280"/>
            <a:ext cx="1476360" cy="493560"/>
            <a:chOff x="6424560" y="6218280"/>
            <a:chExt cx="1476360" cy="493560"/>
          </a:xfrm>
        </p:grpSpPr>
        <p:pic>
          <p:nvPicPr>
            <p:cNvPr id="413" name="TextBox 12" descr=""/>
            <p:cNvPicPr/>
            <p:nvPr/>
          </p:nvPicPr>
          <p:blipFill>
            <a:blip r:embed="rId5"/>
            <a:stretch/>
          </p:blipFill>
          <p:spPr>
            <a:xfrm>
              <a:off x="6424560" y="6218280"/>
              <a:ext cx="14763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6477120" y="6248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rbel"/>
                </a:rPr>
                <a:t>Folia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 sure to complete your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ypes of Rocks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notes as you view this present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5029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rock is a naturally occurring solid mixture of one or more minerals, or organic mat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ocks are classified by how they are formed, their composition, and textu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ocks change over time through the rock cyc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7" name="Picture 2" descr="C:\Documents and Settings\Liz\Local Settings\Temporary Internet Files\Content.IE5\3QA88QPI\MPj04383960000[1].jpg"/>
          <p:cNvPicPr/>
          <p:nvPr/>
        </p:nvPicPr>
        <p:blipFill>
          <a:blip r:embed="rId2"/>
          <a:stretch/>
        </p:blipFill>
        <p:spPr>
          <a:xfrm>
            <a:off x="5756400" y="1833480"/>
            <a:ext cx="3159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gneous rock begins as mag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gma can form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rock is heat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pressure is releas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rock changes composi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gma freezes between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700 °C and 1,250 °C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gma is a mixture of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miner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Picture 2" descr="IGNANIM.GIF (230930 bytes)"/>
          <p:cNvPicPr/>
          <p:nvPr/>
        </p:nvPicPr>
        <p:blipFill>
          <a:blip r:embed="rId2"/>
          <a:stretch/>
        </p:blipFill>
        <p:spPr>
          <a:xfrm>
            <a:off x="5943600" y="2590920"/>
            <a:ext cx="2662200" cy="33717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4"/>
          <p:cNvSpPr/>
          <p:nvPr/>
        </p:nvSpPr>
        <p:spPr>
          <a:xfrm>
            <a:off x="5181480" y="632448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fi.edu/fellows/payton/rocks/create/igneou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Felsic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light colored rocks that are rich in elements such as aluminum, potassium, silicon, and sodiu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Mafic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dark colored rocks that are rich in calcium, iron, and magnesium, poor in silic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Coarse-grain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 takes longer to cool, giving mineral crystals more time to gro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Fine-grain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cools quickly with little to no crystal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457200" y="3124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Fel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"/>
          <p:cNvSpPr/>
          <p:nvPr/>
        </p:nvSpPr>
        <p:spPr>
          <a:xfrm>
            <a:off x="380880" y="4724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Ma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2286000" y="1752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Coarse-Gr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6"/>
          <p:cNvSpPr/>
          <p:nvPr/>
        </p:nvSpPr>
        <p:spPr>
          <a:xfrm>
            <a:off x="5562720" y="17524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Fine-Gr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granite"/>
          <p:cNvPicPr/>
          <p:nvPr/>
        </p:nvPicPr>
        <p:blipFill>
          <a:blip r:embed="rId2"/>
          <a:stretch/>
        </p:blipFill>
        <p:spPr>
          <a:xfrm>
            <a:off x="1752480" y="2286000"/>
            <a:ext cx="2845080" cy="2133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rhyolite"/>
          <p:cNvPicPr/>
          <p:nvPr/>
        </p:nvPicPr>
        <p:blipFill>
          <a:blip r:embed="rId3"/>
          <a:stretch/>
        </p:blipFill>
        <p:spPr>
          <a:xfrm>
            <a:off x="4876920" y="2209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gabbro"/>
          <p:cNvPicPr/>
          <p:nvPr/>
        </p:nvPicPr>
        <p:blipFill>
          <a:blip r:embed="rId4"/>
          <a:stretch/>
        </p:blipFill>
        <p:spPr>
          <a:xfrm>
            <a:off x="1828800" y="4572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basalt"/>
          <p:cNvPicPr/>
          <p:nvPr/>
        </p:nvPicPr>
        <p:blipFill>
          <a:blip r:embed="rId5"/>
          <a:stretch/>
        </p:blipFill>
        <p:spPr>
          <a:xfrm>
            <a:off x="4927680" y="4572000"/>
            <a:ext cx="284472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23" name="Rectangle 13"/>
          <p:cNvGrpSpPr/>
          <p:nvPr/>
        </p:nvGrpSpPr>
        <p:grpSpPr>
          <a:xfrm>
            <a:off x="2534400" y="4011480"/>
            <a:ext cx="1044720" cy="474840"/>
            <a:chOff x="2534400" y="4011480"/>
            <a:chExt cx="1044720" cy="474840"/>
          </a:xfrm>
        </p:grpSpPr>
        <p:pic>
          <p:nvPicPr>
            <p:cNvPr id="324" name="Rectangle 13" descr=""/>
            <p:cNvPicPr/>
            <p:nvPr/>
          </p:nvPicPr>
          <p:blipFill>
            <a:blip r:embed="rId6"/>
            <a:stretch/>
          </p:blipFill>
          <p:spPr>
            <a:xfrm>
              <a:off x="2535120" y="4011480"/>
              <a:ext cx="104328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534400" y="40384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rbel"/>
                </a:rPr>
                <a:t>Gran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Rectangle 15"/>
          <p:cNvGrpSpPr/>
          <p:nvPr/>
        </p:nvGrpSpPr>
        <p:grpSpPr>
          <a:xfrm>
            <a:off x="2631960" y="6218280"/>
            <a:ext cx="1081080" cy="480960"/>
            <a:chOff x="2631960" y="6218280"/>
            <a:chExt cx="1081080" cy="480960"/>
          </a:xfrm>
        </p:grpSpPr>
        <p:pic>
          <p:nvPicPr>
            <p:cNvPr id="327" name="Rectangle 15" descr=""/>
            <p:cNvPicPr/>
            <p:nvPr/>
          </p:nvPicPr>
          <p:blipFill>
            <a:blip r:embed="rId7"/>
            <a:stretch/>
          </p:blipFill>
          <p:spPr>
            <a:xfrm>
              <a:off x="2633760" y="6218280"/>
              <a:ext cx="10792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31960" y="624852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rbel"/>
                </a:rPr>
                <a:t>Gabbr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Rectangle 16"/>
          <p:cNvGrpSpPr/>
          <p:nvPr/>
        </p:nvGrpSpPr>
        <p:grpSpPr>
          <a:xfrm>
            <a:off x="5815080" y="6218280"/>
            <a:ext cx="963720" cy="480960"/>
            <a:chOff x="5815080" y="6218280"/>
            <a:chExt cx="963720" cy="480960"/>
          </a:xfrm>
        </p:grpSpPr>
        <p:pic>
          <p:nvPicPr>
            <p:cNvPr id="330" name="Rectangle 16" descr=""/>
            <p:cNvPicPr/>
            <p:nvPr/>
          </p:nvPicPr>
          <p:blipFill>
            <a:blip r:embed="rId8"/>
            <a:stretch/>
          </p:blipFill>
          <p:spPr>
            <a:xfrm>
              <a:off x="5815080" y="6218280"/>
              <a:ext cx="9637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5818680" y="624852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rbel"/>
                </a:rPr>
                <a:t>Basal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Rectangle 17"/>
          <p:cNvGrpSpPr/>
          <p:nvPr/>
        </p:nvGrpSpPr>
        <p:grpSpPr>
          <a:xfrm>
            <a:off x="5802120" y="4022640"/>
            <a:ext cx="1188000" cy="476280"/>
            <a:chOff x="5802120" y="4022640"/>
            <a:chExt cx="1188000" cy="476280"/>
          </a:xfrm>
        </p:grpSpPr>
        <p:pic>
          <p:nvPicPr>
            <p:cNvPr id="333" name="Rectangle 17" descr=""/>
            <p:cNvPicPr/>
            <p:nvPr/>
          </p:nvPicPr>
          <p:blipFill>
            <a:blip r:embed="rId9"/>
            <a:stretch/>
          </p:blipFill>
          <p:spPr>
            <a:xfrm>
              <a:off x="5803920" y="4022640"/>
              <a:ext cx="1182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802120" y="4049640"/>
              <a:ext cx="11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rbel"/>
                </a:rPr>
                <a:t>Rhyoli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228240" y="175212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Intrusive Igneous Rock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magma pushes into surrounding rock below the Earth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 surf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Extrusive Rock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forms when magma erupts onto the Earth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 surface (lava),  cools quickly with very small or no crystals form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2" descr="http://www.windows.ucar.edu/earth/geology/images/batholith_sm.gif"/>
          <p:cNvPicPr/>
          <p:nvPr/>
        </p:nvPicPr>
        <p:blipFill>
          <a:blip r:embed="rId2"/>
          <a:stretch/>
        </p:blipFill>
        <p:spPr>
          <a:xfrm>
            <a:off x="6095880" y="1523880"/>
            <a:ext cx="2743200" cy="2167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http://www.windows.ucar.edu/earth/images/Stromboli_1_small.jpg"/>
          <p:cNvPicPr/>
          <p:nvPr/>
        </p:nvPicPr>
        <p:blipFill>
          <a:blip r:embed="rId3"/>
          <a:stretch/>
        </p:blipFill>
        <p:spPr>
          <a:xfrm>
            <a:off x="6400800" y="3809880"/>
            <a:ext cx="2181240" cy="28101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5"/>
          <p:cNvSpPr/>
          <p:nvPr/>
        </p:nvSpPr>
        <p:spPr>
          <a:xfrm>
            <a:off x="914400" y="6381720"/>
            <a:ext cx="495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windows.ucar.edu/tour/link=/earth/geology/ig_intrusive.html&amp;edu=high&amp;fr=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"/>
          <p:cNvSpPr/>
          <p:nvPr/>
        </p:nvSpPr>
        <p:spPr>
          <a:xfrm>
            <a:off x="-2925000" y="-2636640"/>
            <a:ext cx="149940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428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55555"/>
                </a:solidFill>
                <a:latin typeface="Arial"/>
                <a:ea typeface="Arial"/>
              </a:rPr>
              <a:t>Obsidi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55555"/>
                </a:solidFill>
                <a:latin typeface="Arial"/>
                <a:ea typeface="Arial"/>
              </a:rPr>
              <a:t>What is Obsidian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idian is a dark-colored volcanic glass that forms from the very rapid cooling of molten rock material. It cools so rapidly that crystals do not form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obsidian"/>
          <p:cNvPicPr/>
          <p:nvPr/>
        </p:nvPicPr>
        <p:blipFill>
          <a:blip r:embed="rId2"/>
          <a:stretch/>
        </p:blipFill>
        <p:spPr>
          <a:xfrm>
            <a:off x="380880" y="25909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4"/>
          <p:cNvSpPr/>
          <p:nvPr/>
        </p:nvSpPr>
        <p:spPr>
          <a:xfrm>
            <a:off x="304920" y="16002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Obsidian is a dark-colored volcanic glass that forms from the very rapid cooling of molten rock material. It cools so rapidly that crystals do not form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TextBox 5"/>
          <p:cNvGrpSpPr/>
          <p:nvPr/>
        </p:nvGrpSpPr>
        <p:grpSpPr>
          <a:xfrm>
            <a:off x="5815080" y="2560680"/>
            <a:ext cx="3232080" cy="3157560"/>
            <a:chOff x="5815080" y="2560680"/>
            <a:chExt cx="3232080" cy="3157560"/>
          </a:xfrm>
        </p:grpSpPr>
        <p:pic>
          <p:nvPicPr>
            <p:cNvPr id="345" name="TextBox 5" descr=""/>
            <p:cNvPicPr/>
            <p:nvPr/>
          </p:nvPicPr>
          <p:blipFill>
            <a:blip r:embed="rId3"/>
            <a:stretch/>
          </p:blipFill>
          <p:spPr>
            <a:xfrm>
              <a:off x="5815080" y="2560680"/>
              <a:ext cx="323208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867280" y="2590920"/>
              <a:ext cx="31244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Is this rock Felsic or Mafic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Is it fine-grained or coarse-graine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rbel"/>
                </a:rPr>
                <a:t>Is this rock Intrusive or  Extrusiv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TextBox 6"/>
          <p:cNvGrpSpPr/>
          <p:nvPr/>
        </p:nvGrpSpPr>
        <p:grpSpPr>
          <a:xfrm>
            <a:off x="5735520" y="6218280"/>
            <a:ext cx="3311640" cy="450720"/>
            <a:chOff x="5735520" y="6218280"/>
            <a:chExt cx="3311640" cy="450720"/>
          </a:xfrm>
        </p:grpSpPr>
        <p:pic>
          <p:nvPicPr>
            <p:cNvPr id="348" name="TextBox 6" descr=""/>
            <p:cNvPicPr/>
            <p:nvPr/>
          </p:nvPicPr>
          <p:blipFill>
            <a:blip r:embed="rId4"/>
            <a:stretch/>
          </p:blipFill>
          <p:spPr>
            <a:xfrm>
              <a:off x="5735520" y="6218280"/>
              <a:ext cx="33116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791320" y="624852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rbel"/>
                </a:rPr>
                <a:t>Mafic, fine grained, extrus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SEDIANIM.GIF (205851 bytes)"/>
          <p:cNvPicPr/>
          <p:nvPr/>
        </p:nvPicPr>
        <p:blipFill>
          <a:blip r:embed="rId2"/>
          <a:stretch/>
        </p:blipFill>
        <p:spPr>
          <a:xfrm>
            <a:off x="6019920" y="2057400"/>
            <a:ext cx="2948040" cy="359100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"/>
          <p:cNvSpPr/>
          <p:nvPr/>
        </p:nvSpPr>
        <p:spPr>
          <a:xfrm>
            <a:off x="5257800" y="60958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http://www.fi.edu/fellows/payton/rocks/create/sediment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ontent Placeholder 2"/>
          <p:cNvSpPr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dimentary rock is formed by ero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diments are moved from                                 one place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diments are deposited in                           layers, with the older 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n the bot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layers become compacted                         and cemented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55" name="Content Placeholder 2"/>
          <p:cNvSpPr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dimentary Rocks are formed at or near the   Earth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 heat and pressure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Strat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– layers of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345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Stratificatio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– the process in                       which sedimentary rocks are                   arranged in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C:\Documents and Settings\Liz\Local Settings\Temporary Internet Files\Content.IE5\W49KQFHU\MPj04033980000[1].jpg"/>
          <p:cNvPicPr/>
          <p:nvPr/>
        </p:nvPicPr>
        <p:blipFill>
          <a:blip r:embed="rId2"/>
          <a:stretch/>
        </p:blipFill>
        <p:spPr>
          <a:xfrm>
            <a:off x="6172200" y="2438280"/>
            <a:ext cx="2666880" cy="3998880"/>
          </a:xfrm>
          <a:prstGeom prst="rect">
            <a:avLst/>
          </a:prstGeom>
          <a:ln w="0">
            <a:noFill/>
          </a:ln>
        </p:spPr>
      </p:pic>
      <p:cxnSp>
        <p:nvCxnSpPr>
          <p:cNvPr id="357" name="Straight Arrow Connector 6"/>
          <p:cNvCxnSpPr/>
          <p:nvPr/>
        </p:nvCxnSpPr>
        <p:spPr>
          <a:xfrm flipV="1">
            <a:off x="4876920" y="3657240"/>
            <a:ext cx="2210400" cy="838800"/>
          </a:xfrm>
          <a:prstGeom prst="straightConnector1">
            <a:avLst/>
          </a:prstGeom>
          <a:ln cap="rnd" w="25560">
            <a:solidFill>
              <a:srgbClr val="f0a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22:18:40Z</dcterms:created>
  <dc:creator>Liz</dc:creator>
  <dc:description/>
  <dc:language>en-US</dc:language>
  <cp:lastModifiedBy>austen cory</cp:lastModifiedBy>
  <dcterms:modified xsi:type="dcterms:W3CDTF">2013-10-30T21:47:37Z</dcterms:modified>
  <cp:revision>35</cp:revision>
  <dc:subject/>
  <dc:title>Types of Rock</dc:title>
</cp:coreProperties>
</file>