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2.gif" ContentType="image/gif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9.jpeg" ContentType="image/jpeg"/>
  <Override PartName="/ppt/media/image11.png" ContentType="image/png"/>
  <Override PartName="/ppt/media/image26.png" ContentType="image/png"/>
  <Override PartName="/ppt/media/image30.png" ContentType="image/png"/>
  <Override PartName="/ppt/media/image29.jpeg" ContentType="image/jpeg"/>
  <Override PartName="/ppt/media/image31.png" ContentType="image/png"/>
  <Override PartName="/ppt/media/image12.png" ContentType="image/png"/>
  <Override PartName="/ppt/media/image42.jpeg" ContentType="image/jpeg"/>
  <Override PartName="/ppt/media/image32.gif" ContentType="image/gif"/>
  <Override PartName="/ppt/media/image28.png" ContentType="image/png"/>
  <Override PartName="/ppt/media/image7.jpeg" ContentType="image/jpeg"/>
  <Override PartName="/ppt/media/image20.png" ContentType="image/png"/>
  <Override PartName="/ppt/media/image36.png" ContentType="image/png"/>
  <Override PartName="/ppt/media/image41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6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8.jpeg" ContentType="image/jpeg"/>
  <Override PartName="/ppt/media/image39.jpeg" ContentType="image/jpeg"/>
  <Override PartName="/ppt/media/image3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0A6-C7C6-4D15-B08E-D6234148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D7A-0229-4260-B1D7-DF906F54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953-37B3-4345-96CE-D8025685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CC5-31D1-44AC-8D77-1107F783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A800-0A2E-4660-B4BD-CCABBB93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D08C-D78B-43F5-835D-8AEB4C9D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C62B-7D39-487B-B447-D6B642E0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8DFC-0123-4065-B2FA-B024861F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EBC4-FAE3-4962-BC64-32B3B1BF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8F4C-5D25-4AB2-B9A7-1D17DD25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40F7-57EC-40A7-83CB-23041BDA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7E6-F1B0-402B-B4A8-086C49EE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0AF2-4B68-4395-A069-ED922BEC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CD92-6588-41A4-AE05-913FF04E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2898-DA91-4CAB-B289-93EAAEA5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D0AB-61BD-4343-AB28-A5973CFF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2D9A-2985-40D6-811F-F8FDB3F0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0AD4-2692-416E-AF96-B40C3783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C015F-276A-4040-9B82-C4B4850E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6DC33-7F0B-47BD-95F7-6D3889AE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7A0BB-AA4C-44EF-BBFA-D5B09D43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F1943-434A-4FD2-B4E8-9EA41569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41F-1740-4865-BEBD-4296473F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DB693-4738-447E-846F-A37172C1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90703-5673-4D82-8DD9-053F6F82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3D64F-E765-4F34-8814-DFE3AFE1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3DDA1-8C53-44CA-8623-2F70B445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01F51-D9B6-48B3-B411-31D8C8DA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ED2E6-59C4-42ED-8FF0-A6C484F9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A2196-2CBA-4967-A5B8-D4E7EC5C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E3A39-1417-4F09-A232-01104BE4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B700B-C574-4310-AB09-92A51E46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721DA-BA41-4263-A1E0-DF856DB8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D9F-F629-4A37-8780-C6AD56C2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990BF-3B71-4A6C-93EF-C28E2253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06C10-4552-415E-B12F-442ED0E0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F1786-A312-40E8-A26E-FF2B95B8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9F040-2C3B-4A04-8505-258F32B7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87A55-A096-4B46-B3B9-30553547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11EF7-0B3D-4242-882B-8E954AD1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2DBD6-5F65-46B1-AD48-1E4C23F9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1444B-875D-4102-B9C7-9A95C875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3304A-8F2D-43C2-8198-BD9F573F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69BD1-8172-432F-B564-D39F49AE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FBB-FA1E-4D1C-A030-B943AC5E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C505F-0892-4FF0-96A3-3FD96F8F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2DC32-7709-4D99-A995-B08A10B4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3AE10-FC51-4D0D-A0C5-D70A7F90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99CC4-1F25-472C-B1B2-BDE609DA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DC697-7729-4AFD-ACE3-3A4D47CF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9BDEF-60E1-47CB-BA48-C79948C9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8AF13-FA57-48D8-B453-A9CB6B53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55E76-41EB-46E2-91C1-82F40EAF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A5797-17DE-457F-9A90-7B8CB3EC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A0D9B-9F0F-46A3-9423-15EDB53A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331-7336-4D1C-B9A8-3148EE3D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A91A6-76AB-4F1E-B062-5ECD3ABA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8BA73-8579-48A5-9909-3FF58573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2F3A2-2A39-4982-9140-F765ACE9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D8035-8EDF-448F-9754-02846B7A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C4D9A-69EB-4A88-BBC5-07DF71E8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C16A7-F610-41E5-9B56-FEE49159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68ACB-1C16-4B41-B11A-1E665670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46855-F3C2-469D-BD2F-38BDF143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AB43D-16A4-4DD7-B0BE-AAB1910F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930F5-F5A6-44C4-9FB7-975F1911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465-7F4E-4476-9249-A76B1560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27F81-9134-4EF7-A347-4E94FA3C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76C51-4FD4-44D8-B090-65C9C30E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29DFC-E721-46DA-B403-1DA46C06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425D4-6254-4552-A16E-65CDC4C4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61322-6E60-4B1F-A5DA-91664225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1F892-508D-47EE-B45B-54643793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40CA5-798C-4A17-B7A8-44499842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EB3E3-78D3-4279-BFF1-1C4371B7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E9E62-BBAA-4E60-8C2E-92A1A688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A1F31-9FEE-460E-95EE-1DCE4A5E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915B-5515-4408-A38B-0004B310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E80F7-3726-4D2B-8EEA-DE88474A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2894C-3059-455D-98CB-E09F934E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93A7B-2ACF-4307-A4ED-680E311E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04CCA-56B7-43D8-9B7C-BCF3F756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A0A4B-9AA2-4C1E-A23A-97D5293A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A20-1725-4E6D-97C5-024E5F14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0928-47DC-4702-9533-F367F4A2098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972C-49B6-4189-8EC2-03B59DFE84B0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BCB9-A208-4D3A-B549-FD1A461A10F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B3EA-6A20-4AA1-804C-6118F88F4A1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E7E3-06F1-407D-9FBE-095CA07AFFB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A92D-DD36-4F72-A4C5-7D3128D5A56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B87A-9BDB-4796-ABB3-53A72F43D9F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3352680"/>
            <a:ext cx="8083440" cy="16765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0912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iz LaRosa http://www.middleschoolscience.com 20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mages from Geology.com unless otherwise note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9" name="Content Placeholder 2"/>
          <p:cNvSpPr/>
          <p:nvPr/>
        </p:nvSpPr>
        <p:spPr>
          <a:xfrm>
            <a:off x="457200" y="1600200"/>
            <a:ext cx="82296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Clastic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made of fragments of rock cemented together with calcite or quar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breccia"/>
          <p:cNvPicPr/>
          <p:nvPr/>
        </p:nvPicPr>
        <p:blipFill>
          <a:blip r:embed="rId2"/>
          <a:stretch/>
        </p:blipFill>
        <p:spPr>
          <a:xfrm>
            <a:off x="3733920" y="2971800"/>
            <a:ext cx="4724280" cy="3543480"/>
          </a:xfrm>
          <a:prstGeom prst="rect">
            <a:avLst/>
          </a:prstGeom>
          <a:ln w="0">
            <a:noFill/>
          </a:ln>
        </p:spPr>
      </p:pic>
      <p:grpSp>
        <p:nvGrpSpPr>
          <p:cNvPr id="361" name="Rectangle 4"/>
          <p:cNvGrpSpPr/>
          <p:nvPr/>
        </p:nvGrpSpPr>
        <p:grpSpPr>
          <a:xfrm>
            <a:off x="249120" y="2687760"/>
            <a:ext cx="3311640" cy="4699440"/>
            <a:chOff x="249120" y="2687760"/>
            <a:chExt cx="3311640" cy="4699440"/>
          </a:xfrm>
        </p:grpSpPr>
        <p:pic>
          <p:nvPicPr>
            <p:cNvPr id="362" name="Rectangle 4" descr=""/>
            <p:cNvPicPr/>
            <p:nvPr/>
          </p:nvPicPr>
          <p:blipFill>
            <a:blip r:embed="rId3"/>
            <a:stretch/>
          </p:blipFill>
          <p:spPr>
            <a:xfrm>
              <a:off x="249120" y="2687760"/>
              <a:ext cx="331164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304920" y="2719440"/>
              <a:ext cx="32004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00"/>
                  </a:solidFill>
                  <a:uFillTx/>
                  <a:latin typeface="Corbel"/>
                </a:rPr>
                <a:t>Breccia</a:t>
              </a:r>
              <a:r>
                <a:rPr b="0" lang="en-US" sz="2000" spc="-1" strike="noStrike">
                  <a:solidFill>
                    <a:srgbClr val="ffffff"/>
                  </a:solidFill>
                  <a:latin typeface="Corbel"/>
                </a:rPr>
                <a:t> is a term most often used for clastic sedimentary rocks that are composed of large angular fragments (over two millimeters in diameter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rbel"/>
                </a:rPr>
                <a:t>The spaces between the large angular fragments can be filled with a matrix of smaller particles or a mineral cement that binds the rock 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together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65" name="Content Placeholder 2"/>
          <p:cNvSpPr/>
          <p:nvPr/>
        </p:nvSpPr>
        <p:spPr>
          <a:xfrm>
            <a:off x="457200" y="1676520"/>
            <a:ext cx="822960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Chemical sedimentary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minerals crystallize out of solution to becom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limestone"/>
          <p:cNvPicPr/>
          <p:nvPr/>
        </p:nvPicPr>
        <p:blipFill>
          <a:blip r:embed="rId2"/>
          <a:stretch/>
        </p:blipFill>
        <p:spPr>
          <a:xfrm>
            <a:off x="3809880" y="2971800"/>
            <a:ext cx="4724640" cy="3543480"/>
          </a:xfrm>
          <a:prstGeom prst="rect">
            <a:avLst/>
          </a:prstGeom>
          <a:ln w="0">
            <a:noFill/>
          </a:ln>
        </p:spPr>
      </p:pic>
      <p:grpSp>
        <p:nvGrpSpPr>
          <p:cNvPr id="367" name="Rectangle 4"/>
          <p:cNvGrpSpPr/>
          <p:nvPr/>
        </p:nvGrpSpPr>
        <p:grpSpPr>
          <a:xfrm>
            <a:off x="249120" y="2865600"/>
            <a:ext cx="3384720" cy="3727440"/>
            <a:chOff x="249120" y="2865600"/>
            <a:chExt cx="3384720" cy="3727440"/>
          </a:xfrm>
        </p:grpSpPr>
        <p:pic>
          <p:nvPicPr>
            <p:cNvPr id="368" name="Rectangle 4" descr=""/>
            <p:cNvPicPr/>
            <p:nvPr/>
          </p:nvPicPr>
          <p:blipFill>
            <a:blip r:embed="rId3"/>
            <a:stretch/>
          </p:blipFill>
          <p:spPr>
            <a:xfrm>
              <a:off x="249120" y="2865600"/>
              <a:ext cx="3384720" cy="32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04920" y="2895480"/>
              <a:ext cx="3276360" cy="36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Corbel"/>
                </a:rPr>
                <a:t>Limestone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 is a sedimentary rock composed primarily of calcium carbonate (CaCO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rbel"/>
                </a:rPr>
                <a:t>3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) in the form of the mineral calcite. It most commonly forms in clear, warm, shallow marine water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It is usually an organic sedimentary rock that forms from the accumulation of shell, coral, algal and fecal debri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71" name="Content Placeholder 2"/>
          <p:cNvSpPr/>
          <p:nvPr/>
        </p:nvSpPr>
        <p:spPr>
          <a:xfrm>
            <a:off x="457200" y="1600200"/>
            <a:ext cx="82296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Organic sedimentary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remains of plants 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bituminous coal"/>
          <p:cNvPicPr/>
          <p:nvPr/>
        </p:nvPicPr>
        <p:blipFill>
          <a:blip r:embed="rId2"/>
          <a:stretch/>
        </p:blipFill>
        <p:spPr>
          <a:xfrm>
            <a:off x="3352680" y="2895480"/>
            <a:ext cx="5334120" cy="3619800"/>
          </a:xfrm>
          <a:prstGeom prst="rect">
            <a:avLst/>
          </a:prstGeom>
          <a:ln w="0">
            <a:noFill/>
          </a:ln>
        </p:spPr>
      </p:pic>
      <p:grpSp>
        <p:nvGrpSpPr>
          <p:cNvPr id="373" name="Rectangle 4"/>
          <p:cNvGrpSpPr/>
          <p:nvPr/>
        </p:nvGrpSpPr>
        <p:grpSpPr>
          <a:xfrm>
            <a:off x="249120" y="2865600"/>
            <a:ext cx="2854440" cy="3803400"/>
            <a:chOff x="249120" y="2865600"/>
            <a:chExt cx="2854440" cy="3803400"/>
          </a:xfrm>
        </p:grpSpPr>
        <p:pic>
          <p:nvPicPr>
            <p:cNvPr id="374" name="Rectangle 4" descr=""/>
            <p:cNvPicPr/>
            <p:nvPr/>
          </p:nvPicPr>
          <p:blipFill>
            <a:blip r:embed="rId3"/>
            <a:stretch/>
          </p:blipFill>
          <p:spPr>
            <a:xfrm>
              <a:off x="249120" y="2865600"/>
              <a:ext cx="2854440" cy="38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04920" y="2895480"/>
              <a:ext cx="27432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Corbel"/>
                </a:rPr>
                <a:t>Coal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 is an organic sedimentary rock that forms from the accumulation and preservation of plant materials, usually in a swamp environment.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Coal is a combustible rock and along with oil and natural gas it is one of the three most important fossil fuels.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METAANIM.GIF (355469 bytes)"/>
          <p:cNvPicPr/>
          <p:nvPr/>
        </p:nvPicPr>
        <p:blipFill>
          <a:blip r:embed="rId2"/>
          <a:stretch/>
        </p:blipFill>
        <p:spPr>
          <a:xfrm>
            <a:off x="5867280" y="1981080"/>
            <a:ext cx="3024360" cy="35974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5257800" y="6172200"/>
            <a:ext cx="388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fi.edu/fellows/payton/rocks/create/metamorph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609480" y="2133720"/>
            <a:ext cx="525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ning to 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nges with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pressure, but remain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ually takes place deep 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6840" y="1600200"/>
            <a:ext cx="8381880" cy="1806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Contact Metamorphism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– heated by nearby mag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creased temperature changes the composition of the rock, minerals are changed into new minera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2" name="Picture 2" descr="hornfels"/>
          <p:cNvPicPr/>
          <p:nvPr/>
        </p:nvPicPr>
        <p:blipFill>
          <a:blip r:embed="rId2"/>
          <a:stretch/>
        </p:blipFill>
        <p:spPr>
          <a:xfrm>
            <a:off x="990720" y="2971800"/>
            <a:ext cx="3124080" cy="2343240"/>
          </a:xfrm>
          <a:prstGeom prst="rect">
            <a:avLst/>
          </a:prstGeom>
          <a:ln w="0">
            <a:noFill/>
          </a:ln>
        </p:spPr>
      </p:pic>
      <p:grpSp>
        <p:nvGrpSpPr>
          <p:cNvPr id="383" name="Rectangle 4"/>
          <p:cNvGrpSpPr/>
          <p:nvPr/>
        </p:nvGrpSpPr>
        <p:grpSpPr>
          <a:xfrm>
            <a:off x="96840" y="5303880"/>
            <a:ext cx="5060880" cy="1587240"/>
            <a:chOff x="96840" y="5303880"/>
            <a:chExt cx="5060880" cy="1587240"/>
          </a:xfrm>
        </p:grpSpPr>
        <p:pic>
          <p:nvPicPr>
            <p:cNvPr id="384" name="Rectangle 4" descr=""/>
            <p:cNvPicPr/>
            <p:nvPr/>
          </p:nvPicPr>
          <p:blipFill>
            <a:blip r:embed="rId3"/>
            <a:stretch/>
          </p:blipFill>
          <p:spPr>
            <a:xfrm>
              <a:off x="96840" y="5303880"/>
              <a:ext cx="506088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52280" y="5334120"/>
              <a:ext cx="4953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Corbel"/>
                </a:rPr>
                <a:t>Hornfels</a:t>
              </a: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 is a fine-grained non-foliated metamorphic rock produced by contact metamorphis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6" name="Picture 4" descr="http://www.windows.ucar.edu/earth/geology/images/meta_contact2.gif"/>
          <p:cNvPicPr/>
          <p:nvPr/>
        </p:nvPicPr>
        <p:blipFill>
          <a:blip r:embed="rId4"/>
          <a:stretch/>
        </p:blipFill>
        <p:spPr>
          <a:xfrm>
            <a:off x="5257800" y="30481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3886200" y="6611760"/>
            <a:ext cx="5181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windows.ucar.edu/tour/link=/earth/geology/meta_contact.html&amp;edu=h igh&amp;fr=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04560" y="1774440"/>
            <a:ext cx="5638680" cy="4778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Regional Metamorphism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pressure builds up in rocks that is deep within the Ear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arge pieces of the Earth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crust collide and the rock is deformed and chemically changed by heat and press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2" descr="http://www.windows.ucar.edu/earth/geology/images/regional_meta.gif"/>
          <p:cNvPicPr/>
          <p:nvPr/>
        </p:nvPicPr>
        <p:blipFill>
          <a:blip r:embed="rId2"/>
          <a:stretch/>
        </p:blipFill>
        <p:spPr>
          <a:xfrm>
            <a:off x="6172200" y="1676520"/>
            <a:ext cx="2514600" cy="502920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6"/>
          <p:cNvSpPr/>
          <p:nvPr/>
        </p:nvSpPr>
        <p:spPr>
          <a:xfrm>
            <a:off x="304920" y="6400800"/>
            <a:ext cx="556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windows.ucar.edu/tour/link=/earth/geology/meta_regional.html&amp;edu=high&amp;fr=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Foliat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-  contain aligned grains of flat miner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4" name="Picture 2" descr="gneiss"/>
          <p:cNvPicPr/>
          <p:nvPr/>
        </p:nvPicPr>
        <p:blipFill>
          <a:blip r:embed="rId2"/>
          <a:stretch/>
        </p:blipFill>
        <p:spPr>
          <a:xfrm>
            <a:off x="3581280" y="2819520"/>
            <a:ext cx="4953240" cy="3714480"/>
          </a:xfrm>
          <a:prstGeom prst="rect">
            <a:avLst/>
          </a:prstGeom>
          <a:ln w="0">
            <a:noFill/>
          </a:ln>
        </p:spPr>
      </p:pic>
      <p:grpSp>
        <p:nvGrpSpPr>
          <p:cNvPr id="395" name="Rectangle 4"/>
          <p:cNvGrpSpPr/>
          <p:nvPr/>
        </p:nvGrpSpPr>
        <p:grpSpPr>
          <a:xfrm>
            <a:off x="328680" y="2736720"/>
            <a:ext cx="3079800" cy="4147560"/>
            <a:chOff x="328680" y="2736720"/>
            <a:chExt cx="3079800" cy="4147560"/>
          </a:xfrm>
        </p:grpSpPr>
        <p:pic>
          <p:nvPicPr>
            <p:cNvPr id="396" name="Rectangle 4" descr=""/>
            <p:cNvPicPr/>
            <p:nvPr/>
          </p:nvPicPr>
          <p:blipFill>
            <a:blip r:embed="rId3"/>
            <a:stretch/>
          </p:blipFill>
          <p:spPr>
            <a:xfrm>
              <a:off x="328680" y="2736720"/>
              <a:ext cx="307980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380880" y="2766960"/>
              <a:ext cx="29718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Gneiss</a:t>
              </a: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 is foliated metamorphic rock that has a banded appearance and is made up of granular mineral grain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It typically contains abundant quartz or feldspar mineral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Non-Foliat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mineral grains are not arranged in plains or ban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00" name="Rectangle 4"/>
          <p:cNvGrpSpPr/>
          <p:nvPr/>
        </p:nvGrpSpPr>
        <p:grpSpPr>
          <a:xfrm>
            <a:off x="401760" y="2865600"/>
            <a:ext cx="3079800" cy="4147200"/>
            <a:chOff x="401760" y="2865600"/>
            <a:chExt cx="3079800" cy="4147200"/>
          </a:xfrm>
        </p:grpSpPr>
        <p:pic>
          <p:nvPicPr>
            <p:cNvPr id="401" name="Rectangle 4" descr=""/>
            <p:cNvPicPr/>
            <p:nvPr/>
          </p:nvPicPr>
          <p:blipFill>
            <a:blip r:embed="rId2"/>
            <a:stretch/>
          </p:blipFill>
          <p:spPr>
            <a:xfrm>
              <a:off x="401760" y="2865600"/>
              <a:ext cx="3079800" cy="38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457200" y="2895480"/>
              <a:ext cx="29718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Marble</a:t>
              </a: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 is a non-foliated metamorphic rock that is produced from the metamorphism of limestone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It is composed primarily of calcium carbonate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Picture 2" descr="marble"/>
          <p:cNvPicPr/>
          <p:nvPr/>
        </p:nvPicPr>
        <p:blipFill>
          <a:blip r:embed="rId3"/>
          <a:stretch/>
        </p:blipFill>
        <p:spPr>
          <a:xfrm>
            <a:off x="4038480" y="2971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termine if the following rock samples are foliated or non-foliated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6" name="Picture 2" descr="Amphibolite"/>
          <p:cNvPicPr/>
          <p:nvPr/>
        </p:nvPicPr>
        <p:blipFill>
          <a:blip r:embed="rId2"/>
          <a:stretch/>
        </p:blipFill>
        <p:spPr>
          <a:xfrm>
            <a:off x="152280" y="3276720"/>
            <a:ext cx="2895840" cy="21715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6"/>
          <p:cNvSpPr/>
          <p:nvPr/>
        </p:nvSpPr>
        <p:spPr>
          <a:xfrm>
            <a:off x="832680" y="571500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Amphibo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quartzite"/>
          <p:cNvPicPr/>
          <p:nvPr/>
        </p:nvPicPr>
        <p:blipFill>
          <a:blip r:embed="rId3"/>
          <a:stretch/>
        </p:blipFill>
        <p:spPr>
          <a:xfrm>
            <a:off x="3022560" y="3276720"/>
            <a:ext cx="2844720" cy="213336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8"/>
          <p:cNvSpPr/>
          <p:nvPr/>
        </p:nvSpPr>
        <p:spPr>
          <a:xfrm>
            <a:off x="3746160" y="5638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Quartz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6705720" y="5715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Phyll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8" descr="phyllite"/>
          <p:cNvPicPr/>
          <p:nvPr/>
        </p:nvPicPr>
        <p:blipFill>
          <a:blip r:embed="rId4"/>
          <a:stretch/>
        </p:blipFill>
        <p:spPr>
          <a:xfrm>
            <a:off x="5867280" y="3276720"/>
            <a:ext cx="2819520" cy="2114280"/>
          </a:xfrm>
          <a:prstGeom prst="rect">
            <a:avLst/>
          </a:prstGeom>
          <a:ln w="0">
            <a:noFill/>
          </a:ln>
        </p:spPr>
      </p:pic>
      <p:grpSp>
        <p:nvGrpSpPr>
          <p:cNvPr id="412" name="TextBox 12"/>
          <p:cNvGrpSpPr/>
          <p:nvPr/>
        </p:nvGrpSpPr>
        <p:grpSpPr>
          <a:xfrm>
            <a:off x="6424560" y="6218280"/>
            <a:ext cx="1476360" cy="493560"/>
            <a:chOff x="6424560" y="6218280"/>
            <a:chExt cx="1476360" cy="493560"/>
          </a:xfrm>
        </p:grpSpPr>
        <p:pic>
          <p:nvPicPr>
            <p:cNvPr id="413" name="TextBox 12" descr=""/>
            <p:cNvPicPr/>
            <p:nvPr/>
          </p:nvPicPr>
          <p:blipFill>
            <a:blip r:embed="rId5"/>
            <a:stretch/>
          </p:blipFill>
          <p:spPr>
            <a:xfrm>
              <a:off x="6424560" y="6218280"/>
              <a:ext cx="14763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477120" y="6248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rbel"/>
                </a:rPr>
                <a:t>Folia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 sure to complete your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ypes of Rocks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notes as you view this present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5029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rock is a naturally occurring solid mixture of one or more minerals, or organic mat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ocks are classified by how they are formed, their composition, and textu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ocks change over time through the rock cyc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7" name="Picture 2" descr="C:\Documents and Settings\Liz\Local Settings\Temporary Internet Files\Content.IE5\3QA88QPI\MPj04383960000[1].jpg"/>
          <p:cNvPicPr/>
          <p:nvPr/>
        </p:nvPicPr>
        <p:blipFill>
          <a:blip r:embed="rId2"/>
          <a:stretch/>
        </p:blipFill>
        <p:spPr>
          <a:xfrm>
            <a:off x="5756400" y="1833480"/>
            <a:ext cx="3159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gneous rock begins as mag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gma can form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rock is heat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pressure is releas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rock changes composi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gma freezes betwee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700 °C and 1,250 °C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gma is a mixture of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miner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Picture 2" descr="IGNANIM.GIF (230930 bytes)"/>
          <p:cNvPicPr/>
          <p:nvPr/>
        </p:nvPicPr>
        <p:blipFill>
          <a:blip r:embed="rId2"/>
          <a:stretch/>
        </p:blipFill>
        <p:spPr>
          <a:xfrm>
            <a:off x="5943600" y="2590920"/>
            <a:ext cx="2662200" cy="33717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4"/>
          <p:cNvSpPr/>
          <p:nvPr/>
        </p:nvSpPr>
        <p:spPr>
          <a:xfrm>
            <a:off x="5181480" y="632448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fi.edu/fellows/payton/rocks/create/igneo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Felsic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light colored rocks that are rich in elements such as aluminum, potassium, silicon, and sodiu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Mafic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dark colored rocks that are rich in calcium, iron, and magnesium, poor in silic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Coarse-grain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 takes longer to cool, giving mineral crystals more time to gro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Fine-grain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cools quickly with little to no crystal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457200" y="312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Fel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380880" y="4724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Ma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2286000" y="1752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Coarse-G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"/>
          <p:cNvSpPr/>
          <p:nvPr/>
        </p:nvSpPr>
        <p:spPr>
          <a:xfrm>
            <a:off x="5562720" y="17524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Fine-G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granite"/>
          <p:cNvPicPr/>
          <p:nvPr/>
        </p:nvPicPr>
        <p:blipFill>
          <a:blip r:embed="rId2"/>
          <a:stretch/>
        </p:blipFill>
        <p:spPr>
          <a:xfrm>
            <a:off x="1752480" y="2286000"/>
            <a:ext cx="2845080" cy="2133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rhyolite"/>
          <p:cNvPicPr/>
          <p:nvPr/>
        </p:nvPicPr>
        <p:blipFill>
          <a:blip r:embed="rId3"/>
          <a:stretch/>
        </p:blipFill>
        <p:spPr>
          <a:xfrm>
            <a:off x="4876920" y="2209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gabbro"/>
          <p:cNvPicPr/>
          <p:nvPr/>
        </p:nvPicPr>
        <p:blipFill>
          <a:blip r:embed="rId4"/>
          <a:stretch/>
        </p:blipFill>
        <p:spPr>
          <a:xfrm>
            <a:off x="1828800" y="4572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basalt"/>
          <p:cNvPicPr/>
          <p:nvPr/>
        </p:nvPicPr>
        <p:blipFill>
          <a:blip r:embed="rId5"/>
          <a:stretch/>
        </p:blipFill>
        <p:spPr>
          <a:xfrm>
            <a:off x="4927680" y="4572000"/>
            <a:ext cx="284472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23" name="Rectangle 13"/>
          <p:cNvGrpSpPr/>
          <p:nvPr/>
        </p:nvGrpSpPr>
        <p:grpSpPr>
          <a:xfrm>
            <a:off x="2534400" y="4011480"/>
            <a:ext cx="1044720" cy="474840"/>
            <a:chOff x="2534400" y="4011480"/>
            <a:chExt cx="1044720" cy="474840"/>
          </a:xfrm>
        </p:grpSpPr>
        <p:pic>
          <p:nvPicPr>
            <p:cNvPr id="324" name="Rectangle 13" descr=""/>
            <p:cNvPicPr/>
            <p:nvPr/>
          </p:nvPicPr>
          <p:blipFill>
            <a:blip r:embed="rId6"/>
            <a:stretch/>
          </p:blipFill>
          <p:spPr>
            <a:xfrm>
              <a:off x="2535120" y="4011480"/>
              <a:ext cx="104328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534400" y="40384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rbel"/>
                </a:rPr>
                <a:t>Gran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Rectangle 15"/>
          <p:cNvGrpSpPr/>
          <p:nvPr/>
        </p:nvGrpSpPr>
        <p:grpSpPr>
          <a:xfrm>
            <a:off x="2631960" y="6218280"/>
            <a:ext cx="1081080" cy="480960"/>
            <a:chOff x="2631960" y="6218280"/>
            <a:chExt cx="1081080" cy="480960"/>
          </a:xfrm>
        </p:grpSpPr>
        <p:pic>
          <p:nvPicPr>
            <p:cNvPr id="327" name="Rectangle 15" descr=""/>
            <p:cNvPicPr/>
            <p:nvPr/>
          </p:nvPicPr>
          <p:blipFill>
            <a:blip r:embed="rId7"/>
            <a:stretch/>
          </p:blipFill>
          <p:spPr>
            <a:xfrm>
              <a:off x="2633760" y="6218280"/>
              <a:ext cx="10792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31960" y="624852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rbel"/>
                </a:rPr>
                <a:t>Gabbr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Rectangle 16"/>
          <p:cNvGrpSpPr/>
          <p:nvPr/>
        </p:nvGrpSpPr>
        <p:grpSpPr>
          <a:xfrm>
            <a:off x="5815080" y="6218280"/>
            <a:ext cx="963720" cy="480960"/>
            <a:chOff x="5815080" y="6218280"/>
            <a:chExt cx="963720" cy="480960"/>
          </a:xfrm>
        </p:grpSpPr>
        <p:pic>
          <p:nvPicPr>
            <p:cNvPr id="330" name="Rectangle 16" descr=""/>
            <p:cNvPicPr/>
            <p:nvPr/>
          </p:nvPicPr>
          <p:blipFill>
            <a:blip r:embed="rId8"/>
            <a:stretch/>
          </p:blipFill>
          <p:spPr>
            <a:xfrm>
              <a:off x="5815080" y="6218280"/>
              <a:ext cx="9637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5818680" y="624852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rbel"/>
                </a:rPr>
                <a:t>Basal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Rectangle 17"/>
          <p:cNvGrpSpPr/>
          <p:nvPr/>
        </p:nvGrpSpPr>
        <p:grpSpPr>
          <a:xfrm>
            <a:off x="5802120" y="4022640"/>
            <a:ext cx="1188000" cy="476280"/>
            <a:chOff x="5802120" y="4022640"/>
            <a:chExt cx="1188000" cy="476280"/>
          </a:xfrm>
        </p:grpSpPr>
        <p:pic>
          <p:nvPicPr>
            <p:cNvPr id="333" name="Rectangle 17" descr=""/>
            <p:cNvPicPr/>
            <p:nvPr/>
          </p:nvPicPr>
          <p:blipFill>
            <a:blip r:embed="rId9"/>
            <a:stretch/>
          </p:blipFill>
          <p:spPr>
            <a:xfrm>
              <a:off x="5803920" y="4022640"/>
              <a:ext cx="1182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802120" y="4049640"/>
              <a:ext cx="11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rbel"/>
                </a:rPr>
                <a:t>Rhyoli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228240" y="175212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Intrusive Igneous Rock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magma pushes into surrounding rock below the Earth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surf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Extrusive Rock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forms when magma erupts onto the Earth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surface (lava),  cools quickly with very small or no crystals form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2" descr="http://www.windows.ucar.edu/earth/geology/images/batholith_sm.gif"/>
          <p:cNvPicPr/>
          <p:nvPr/>
        </p:nvPicPr>
        <p:blipFill>
          <a:blip r:embed="rId2"/>
          <a:stretch/>
        </p:blipFill>
        <p:spPr>
          <a:xfrm>
            <a:off x="6095880" y="1523880"/>
            <a:ext cx="2743200" cy="2167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http://www.windows.ucar.edu/earth/images/Stromboli_1_small.jpg"/>
          <p:cNvPicPr/>
          <p:nvPr/>
        </p:nvPicPr>
        <p:blipFill>
          <a:blip r:embed="rId3"/>
          <a:stretch/>
        </p:blipFill>
        <p:spPr>
          <a:xfrm>
            <a:off x="6400800" y="3809880"/>
            <a:ext cx="2181240" cy="28101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914400" y="6381720"/>
            <a:ext cx="495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windows.ucar.edu/tour/link=/earth/geology/ig_intrusive.html&amp;edu=high&amp;fr=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"/>
          <p:cNvSpPr/>
          <p:nvPr/>
        </p:nvSpPr>
        <p:spPr>
          <a:xfrm>
            <a:off x="-2925000" y="-2636640"/>
            <a:ext cx="14994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428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55555"/>
                </a:solidFill>
                <a:latin typeface="Arial"/>
                <a:ea typeface="Arial"/>
              </a:rPr>
              <a:t>Obsidi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55555"/>
                </a:solidFill>
                <a:latin typeface="Arial"/>
                <a:ea typeface="Arial"/>
              </a:rPr>
              <a:t>What is Obsidian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idian is a dark-colored volcanic glass that forms from the very rapid cooling of molten rock material. It cools so rapidly that crystals do not form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obsidian"/>
          <p:cNvPicPr/>
          <p:nvPr/>
        </p:nvPicPr>
        <p:blipFill>
          <a:blip r:embed="rId2"/>
          <a:stretch/>
        </p:blipFill>
        <p:spPr>
          <a:xfrm>
            <a:off x="380880" y="25909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4"/>
          <p:cNvSpPr/>
          <p:nvPr/>
        </p:nvSpPr>
        <p:spPr>
          <a:xfrm>
            <a:off x="304920" y="16002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Obsidian is a dark-colored volcanic glass that forms from the very rapid cooling of molten rock material. It cools so rapidly that crystals do not form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TextBox 5"/>
          <p:cNvGrpSpPr/>
          <p:nvPr/>
        </p:nvGrpSpPr>
        <p:grpSpPr>
          <a:xfrm>
            <a:off x="5815080" y="2560680"/>
            <a:ext cx="3232080" cy="3157560"/>
            <a:chOff x="5815080" y="2560680"/>
            <a:chExt cx="3232080" cy="3157560"/>
          </a:xfrm>
        </p:grpSpPr>
        <p:pic>
          <p:nvPicPr>
            <p:cNvPr id="345" name="TextBox 5" descr=""/>
            <p:cNvPicPr/>
            <p:nvPr/>
          </p:nvPicPr>
          <p:blipFill>
            <a:blip r:embed="rId3"/>
            <a:stretch/>
          </p:blipFill>
          <p:spPr>
            <a:xfrm>
              <a:off x="5815080" y="2560680"/>
              <a:ext cx="323208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867280" y="2590920"/>
              <a:ext cx="31244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Is this rock Felsic or Mafic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Is it fine-grained or coarse-graine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Is this rock Intrusive or  Extrusiv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TextBox 6"/>
          <p:cNvGrpSpPr/>
          <p:nvPr/>
        </p:nvGrpSpPr>
        <p:grpSpPr>
          <a:xfrm>
            <a:off x="5735520" y="6218280"/>
            <a:ext cx="3311640" cy="450720"/>
            <a:chOff x="5735520" y="6218280"/>
            <a:chExt cx="3311640" cy="450720"/>
          </a:xfrm>
        </p:grpSpPr>
        <p:pic>
          <p:nvPicPr>
            <p:cNvPr id="348" name="TextBox 6" descr=""/>
            <p:cNvPicPr/>
            <p:nvPr/>
          </p:nvPicPr>
          <p:blipFill>
            <a:blip r:embed="rId4"/>
            <a:stretch/>
          </p:blipFill>
          <p:spPr>
            <a:xfrm>
              <a:off x="5735520" y="6218280"/>
              <a:ext cx="33116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791320" y="624852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rbel"/>
                </a:rPr>
                <a:t>Mafic, fine grained, extrus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SEDIANIM.GIF (205851 bytes)"/>
          <p:cNvPicPr/>
          <p:nvPr/>
        </p:nvPicPr>
        <p:blipFill>
          <a:blip r:embed="rId2"/>
          <a:stretch/>
        </p:blipFill>
        <p:spPr>
          <a:xfrm>
            <a:off x="6019920" y="2057400"/>
            <a:ext cx="2948040" cy="359100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/>
          <p:cNvSpPr/>
          <p:nvPr/>
        </p:nvSpPr>
        <p:spPr>
          <a:xfrm>
            <a:off x="5257800" y="60958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fi.edu/fellows/payton/rocks/create/sediment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ontent Placeholder 2"/>
          <p:cNvSpPr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dimentary rock is formed by ero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diments are moved from                                 one plac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diments are deposited in                           layers, with the older 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n the bot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layers become compacted                         and cemented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5" name="Content Placeholder 2"/>
          <p:cNvSpPr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dimentary Rocks are formed at or near the   Earth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 heat and pressure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Strat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layers of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Stratificati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the process in                       which sedimentary rocks are                   arranged in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C:\Documents and Settings\Liz\Local Settings\Temporary Internet Files\Content.IE5\W49KQFHU\MPj04033980000[1].jpg"/>
          <p:cNvPicPr/>
          <p:nvPr/>
        </p:nvPicPr>
        <p:blipFill>
          <a:blip r:embed="rId2"/>
          <a:stretch/>
        </p:blipFill>
        <p:spPr>
          <a:xfrm>
            <a:off x="6172200" y="2438280"/>
            <a:ext cx="2666880" cy="3998880"/>
          </a:xfrm>
          <a:prstGeom prst="rect">
            <a:avLst/>
          </a:prstGeom>
          <a:ln w="0">
            <a:noFill/>
          </a:ln>
        </p:spPr>
      </p:pic>
      <p:cxnSp>
        <p:nvCxnSpPr>
          <p:cNvPr id="357" name="Straight Arrow Connector 6"/>
          <p:cNvCxnSpPr/>
          <p:nvPr/>
        </p:nvCxnSpPr>
        <p:spPr>
          <a:xfrm flipV="1">
            <a:off x="4876920" y="3657240"/>
            <a:ext cx="2210400" cy="838800"/>
          </a:xfrm>
          <a:prstGeom prst="straightConnector1">
            <a:avLst/>
          </a:prstGeom>
          <a:ln cap="rnd" w="25560">
            <a:solidFill>
              <a:srgbClr val="f0a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22:18:40Z</dcterms:created>
  <dc:creator>Liz</dc:creator>
  <dc:description/>
  <dc:language>en-US</dc:language>
  <cp:lastModifiedBy>austen cory</cp:lastModifiedBy>
  <dcterms:modified xsi:type="dcterms:W3CDTF">2013-10-30T21:47:37Z</dcterms:modified>
  <cp:revision>35</cp:revision>
  <dc:subject/>
  <dc:title>Types of Rock</dc:title>
</cp:coreProperties>
</file>