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7.jpeg" ContentType="image/jpeg"/>
  <Override PartName="/ppt/media/image23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22.gif" ContentType="image/gif"/>
  <Override PartName="/ppt/media/image17.png" ContentType="image/png"/>
  <Override PartName="/ppt/media/image16.jpeg" ContentType="image/jpeg"/>
  <Override PartName="/ppt/media/image24.jpeg" ContentType="image/jpeg"/>
  <Override PartName="/ppt/media/image14.png" ContentType="image/png"/>
  <Override PartName="/ppt/media/image10.jpeg" ContentType="image/jpeg"/>
  <Override PartName="/ppt/media/image1.jpeg" ContentType="image/jpeg"/>
  <Override PartName="/ppt/media/image9.jpeg" ContentType="image/jpeg"/>
  <Override PartName="/ppt/media/image11.png" ContentType="image/png"/>
  <Override PartName="/ppt/media/image26.png" ContentType="image/png"/>
  <Override PartName="/ppt/media/image30.png" ContentType="image/png"/>
  <Override PartName="/ppt/media/image29.jpeg" ContentType="image/jpeg"/>
  <Override PartName="/ppt/media/image31.png" ContentType="image/png"/>
  <Override PartName="/ppt/media/image12.png" ContentType="image/png"/>
  <Override PartName="/ppt/media/image42.jpeg" ContentType="image/jpeg"/>
  <Override PartName="/ppt/media/image32.gif" ContentType="image/gif"/>
  <Override PartName="/ppt/media/image28.png" ContentType="image/png"/>
  <Override PartName="/ppt/media/image7.jpeg" ContentType="image/jpeg"/>
  <Override PartName="/ppt/media/image20.png" ContentType="image/png"/>
  <Override PartName="/ppt/media/image36.png" ContentType="image/png"/>
  <Override PartName="/ppt/media/image41.jpeg" ContentType="image/jpeg"/>
  <Override PartName="/ppt/media/image13.png" ContentType="image/png"/>
  <Override PartName="/ppt/media/image34.jpeg" ContentType="image/jpeg"/>
  <Override PartName="/ppt/media/image37.png" ContentType="image/png"/>
  <Override PartName="/ppt/media/image6.gif" ContentType="image/gif"/>
  <Override PartName="/ppt/media/image44.jpeg" ContentType="image/jpeg"/>
  <Override PartName="/ppt/media/image45.png" ContentType="image/png"/>
  <Override PartName="/ppt/media/image46.png" ContentType="image/png"/>
  <Override PartName="/ppt/media/image8.jpeg" ContentType="image/jpeg"/>
  <Override PartName="/ppt/media/image39.jpeg" ContentType="image/jpeg"/>
  <Override PartName="/ppt/media/image38.png" ContentType="image/png"/>
  <Override PartName="/ppt/media/image5.png" ContentType="image/png"/>
  <Override PartName="/ppt/media/image35.png" ContentType="image/png"/>
  <Override PartName="/ppt/media/image43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3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4C10-BC8C-4FD8-A7DF-8B2CB4282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1822-2B50-4C26-B5A8-FFC277A8E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D1F5-87D2-4551-92A9-F59B4A93B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1E1E-A791-496B-9346-EF336D746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D8716-27F6-4C3F-ACF0-F382E6EC0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40B8C-993B-427A-8CBE-465727ED2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3CA0F-4FD2-4139-A206-0C7A0D1E6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999F3-F7CE-4F1A-B61C-74311E553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0BF7E-83D8-4396-9786-E9A4F3D1C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720F3-07B6-4FFB-A4A0-C4EF7C5BA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96B22-B907-4E27-9E46-5EF1D6CA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BF10-27AA-43C1-B877-CBB6BF4E3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41118-7DF9-4F37-B2BE-CF7F610A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49C8C-DBDD-4AAD-8756-5D2DFE25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C626A-2526-4DF5-9CF6-46AED5C6B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FCCF3-9910-4099-ADBF-9C5A0BF55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EBAB7-B86A-4AA7-931B-640FB1BE5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96DB2-0B4B-4E47-8070-60EACF9C7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D8563-F2E5-447D-A03A-FD4D0AAEB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9BA7E-A583-4776-82F9-DB3D3B5DD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0E01A-D020-49E5-A700-CBA29D9DD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242BF-49EA-4786-B6B1-36116F4C1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5B23-1D07-4E50-B955-66B4D0C37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22E43-96A6-4BCC-BFF4-25D11F9E7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03AFA-AEF5-4A97-8BC9-13EC340A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78CDD-88CF-4A12-9A61-7BD987EB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7D290-B560-4237-B4BD-FE915F03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27980-42B7-4636-9281-8B3159652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AAEF3-D8C1-4EEF-905A-E43DCD143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373D8-6273-4318-BF9E-445972291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56D39-2FCF-4903-BE6C-56C9EB429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59660-4240-49AF-9E87-19ECD0E2E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20191-E0C9-403D-BEC4-8C0ED941F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69DA-D3FE-416A-B20B-CDB91E856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B877E-8A83-4510-BD2B-E3003DA19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12627-E916-4B54-99D3-26E40431D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B1E11-26A0-4569-8F28-641033D10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8B16D-7B69-4C62-AF50-BFCBD2093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CFFC6-DCE2-4BCB-9E1A-4694F5DB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C3A89-3C20-4ED7-B036-E4809AEF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D09DF-338F-4568-B047-C0024C63A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73BD8-1877-424C-B921-4CF6F9E84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D16F6-5399-4D4A-9CED-FA54ECDC8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E1351-DA72-4B0F-A4CC-815B42E99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B92F-8E44-482F-946F-E2749F23E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8618E-8C63-4356-8CB5-AA0CF985C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67C66-4D24-4B44-8E16-07528EF0E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1587B-BBAD-4CE8-9B6A-9AE7EC2BE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4EAD8-E945-4E18-BEFB-E71B668EF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54273-5463-4F26-9215-8D7034B11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FB575-4D08-452A-9CCB-9A6D182B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AA90A-C2DD-4F71-A7D9-B8A4ABFD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F752E-C07B-4922-8A20-DD93118D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6C4F1-1351-48A9-BA24-3FB963908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5B988-476D-430C-B52C-E4FD1CB92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68D6-69B1-4E62-8377-76FA0FBD9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9370B-F735-4057-9ECB-0D7D0885E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4EF52-0690-440A-A5C3-55D94901D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3E58D-9EAA-474C-8659-4920B42AC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32B527-5C72-405F-A0DE-F64DBE9AC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0A0799-7388-443E-8F2B-ADBC81FEA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65669-223B-4ADD-B78E-094EDE033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9CFB0-8D5C-4D7E-8CBD-E1FC7EE7F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1DD1A-6DAD-4143-B6BB-EC3E89AB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D54015-E480-40E3-B144-28A36B21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6DE8B-727C-4097-AB31-018F8C51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BC03-CA4E-450A-9CFB-7287ED90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CCEF8-9C35-4A87-B675-070E6AFC9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9DE90-0BC3-4E90-B9A9-932FDE8B0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B5B194-2745-40D8-8CDF-DC25F023A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30483-23A1-433D-AFB1-C3262A773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F1372D-F112-4BC6-A9D1-B4E88752A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BDB72F-C74E-475B-B5C1-818906A2E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8ABFA0-B026-420E-8E58-67CE80A46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E91A7A-FA33-4818-B545-174787072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3BA6C-6F86-4886-8707-CAF48B716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1B0C18-4ABB-4251-9EA2-D3D0AFB5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6A6D-DFCD-4831-84E4-C698F90D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D90DE3-D2A4-49F2-8155-E9726C0D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469C09-6235-4588-929C-03E7051C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1B218D-F39A-464F-BBE5-FA74383D3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2EEFA-2FE9-4FFE-979D-84ED06A28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F3A82-34BD-45FB-B01D-E1DD1491E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FC3A-6FBE-4FBB-9391-8BE790E1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982FC-AB4B-4A22-9200-E4B265C3840B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3F252-B1E9-4A7A-AA6A-518B6A9AE8CA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7D9DE-77BC-4755-923B-1D6AC26BB27C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BED22-4763-4C30-B43F-F2212A2B065A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AA9E3-7475-49BC-B83D-1E9FE3DE9572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163B0-AD93-4AF9-AE48-F44A0775A018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9E5F2-BAAF-417D-ABC0-BD81F38356A0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682560" y="3352680"/>
            <a:ext cx="8083440" cy="16765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09120" y="5181480"/>
            <a:ext cx="8077320" cy="150048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Liz LaRosa http://www.middleschoolscience.com 2010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Images from Geology.com unless otherwise noted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59" name="Content Placeholder 2"/>
          <p:cNvSpPr/>
          <p:nvPr/>
        </p:nvSpPr>
        <p:spPr>
          <a:xfrm>
            <a:off x="457200" y="1600200"/>
            <a:ext cx="822960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Clastic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– made of fragments of rock cemented together with calcite or quart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2" descr="breccia"/>
          <p:cNvPicPr/>
          <p:nvPr/>
        </p:nvPicPr>
        <p:blipFill>
          <a:blip r:embed="rId2"/>
          <a:stretch/>
        </p:blipFill>
        <p:spPr>
          <a:xfrm>
            <a:off x="3733920" y="2971800"/>
            <a:ext cx="4724280" cy="3543480"/>
          </a:xfrm>
          <a:prstGeom prst="rect">
            <a:avLst/>
          </a:prstGeom>
          <a:ln w="0">
            <a:noFill/>
          </a:ln>
        </p:spPr>
      </p:pic>
      <p:grpSp>
        <p:nvGrpSpPr>
          <p:cNvPr id="361" name="Rectangle 4"/>
          <p:cNvGrpSpPr/>
          <p:nvPr/>
        </p:nvGrpSpPr>
        <p:grpSpPr>
          <a:xfrm>
            <a:off x="249120" y="2687760"/>
            <a:ext cx="3311640" cy="4699440"/>
            <a:chOff x="249120" y="2687760"/>
            <a:chExt cx="3311640" cy="4699440"/>
          </a:xfrm>
        </p:grpSpPr>
        <p:pic>
          <p:nvPicPr>
            <p:cNvPr id="362" name="Rectangle 4" descr=""/>
            <p:cNvPicPr/>
            <p:nvPr/>
          </p:nvPicPr>
          <p:blipFill>
            <a:blip r:embed="rId3"/>
            <a:stretch/>
          </p:blipFill>
          <p:spPr>
            <a:xfrm>
              <a:off x="249120" y="2687760"/>
              <a:ext cx="3311640" cy="41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304920" y="2719440"/>
              <a:ext cx="3200400" cy="46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00"/>
                  </a:solidFill>
                  <a:uFillTx/>
                  <a:latin typeface="Corbel"/>
                </a:rPr>
                <a:t>Breccia</a:t>
              </a:r>
              <a:r>
                <a:rPr b="0" lang="en-US" sz="2000" spc="-1" strike="noStrike">
                  <a:solidFill>
                    <a:srgbClr val="ffffff"/>
                  </a:solidFill>
                  <a:latin typeface="Corbel"/>
                </a:rPr>
                <a:t> is a term most often used for clastic sedimentary rocks that are composed of large angular fragments (over two millimeters in diameter)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rbel"/>
                </a:rPr>
                <a:t>The spaces between the large angular fragments can be filled with a matrix of smaller particles or a mineral cement that binds the rock </a:t>
              </a:r>
              <a:r>
                <a:rPr b="0" lang="en-US" sz="1800" spc="-1" strike="noStrike">
                  <a:solidFill>
                    <a:srgbClr val="ffffff"/>
                  </a:solidFill>
                  <a:latin typeface="Corbel"/>
                </a:rPr>
                <a:t>together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65" name="Content Placeholder 2"/>
          <p:cNvSpPr/>
          <p:nvPr/>
        </p:nvSpPr>
        <p:spPr>
          <a:xfrm>
            <a:off x="457200" y="1676520"/>
            <a:ext cx="822960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Chemical sedimentary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– minerals crystallize out of solution to become r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2" descr="limestone"/>
          <p:cNvPicPr/>
          <p:nvPr/>
        </p:nvPicPr>
        <p:blipFill>
          <a:blip r:embed="rId2"/>
          <a:stretch/>
        </p:blipFill>
        <p:spPr>
          <a:xfrm>
            <a:off x="3809880" y="2971800"/>
            <a:ext cx="4724640" cy="3543480"/>
          </a:xfrm>
          <a:prstGeom prst="rect">
            <a:avLst/>
          </a:prstGeom>
          <a:ln w="0">
            <a:noFill/>
          </a:ln>
        </p:spPr>
      </p:pic>
      <p:grpSp>
        <p:nvGrpSpPr>
          <p:cNvPr id="367" name="Rectangle 4"/>
          <p:cNvGrpSpPr/>
          <p:nvPr/>
        </p:nvGrpSpPr>
        <p:grpSpPr>
          <a:xfrm>
            <a:off x="249120" y="2865600"/>
            <a:ext cx="3384720" cy="3727440"/>
            <a:chOff x="249120" y="2865600"/>
            <a:chExt cx="3384720" cy="3727440"/>
          </a:xfrm>
        </p:grpSpPr>
        <p:pic>
          <p:nvPicPr>
            <p:cNvPr id="368" name="Rectangle 4" descr=""/>
            <p:cNvPicPr/>
            <p:nvPr/>
          </p:nvPicPr>
          <p:blipFill>
            <a:blip r:embed="rId3"/>
            <a:stretch/>
          </p:blipFill>
          <p:spPr>
            <a:xfrm>
              <a:off x="249120" y="2865600"/>
              <a:ext cx="3384720" cy="32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304920" y="2895480"/>
              <a:ext cx="3276360" cy="36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ff00"/>
                  </a:solidFill>
                  <a:uFillTx/>
                  <a:latin typeface="Corbel"/>
                </a:rPr>
                <a:t>Limestone</a:t>
              </a:r>
              <a:r>
                <a:rPr b="0" lang="en-US" sz="1800" spc="-1" strike="noStrike">
                  <a:solidFill>
                    <a:srgbClr val="ffffff"/>
                  </a:solidFill>
                  <a:latin typeface="Corbel"/>
                </a:rPr>
                <a:t> is a sedimentary rock composed primarily of calcium carbonate (CaCO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rbel"/>
                </a:rPr>
                <a:t>3</a:t>
              </a:r>
              <a:r>
                <a:rPr b="0" lang="en-US" sz="1800" spc="-1" strike="noStrike">
                  <a:solidFill>
                    <a:srgbClr val="ffffff"/>
                  </a:solidFill>
                  <a:latin typeface="Corbel"/>
                </a:rPr>
                <a:t>) in the form of the mineral calcite. It most commonly forms in clear, warm, shallow marine waters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rbel"/>
                </a:rPr>
                <a:t>It is usually an organic sedimentary rock that forms from the accumulation of shell, coral, algal and fecal debris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71" name="Content Placeholder 2"/>
          <p:cNvSpPr/>
          <p:nvPr/>
        </p:nvSpPr>
        <p:spPr>
          <a:xfrm>
            <a:off x="457200" y="1600200"/>
            <a:ext cx="822960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Organic sedimentary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– remains of plants and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2" descr="bituminous coal"/>
          <p:cNvPicPr/>
          <p:nvPr/>
        </p:nvPicPr>
        <p:blipFill>
          <a:blip r:embed="rId2"/>
          <a:stretch/>
        </p:blipFill>
        <p:spPr>
          <a:xfrm>
            <a:off x="3352680" y="2895480"/>
            <a:ext cx="5334120" cy="3619800"/>
          </a:xfrm>
          <a:prstGeom prst="rect">
            <a:avLst/>
          </a:prstGeom>
          <a:ln w="0">
            <a:noFill/>
          </a:ln>
        </p:spPr>
      </p:pic>
      <p:grpSp>
        <p:nvGrpSpPr>
          <p:cNvPr id="373" name="Rectangle 4"/>
          <p:cNvGrpSpPr/>
          <p:nvPr/>
        </p:nvGrpSpPr>
        <p:grpSpPr>
          <a:xfrm>
            <a:off x="249120" y="2865600"/>
            <a:ext cx="2854440" cy="3803400"/>
            <a:chOff x="249120" y="2865600"/>
            <a:chExt cx="2854440" cy="3803400"/>
          </a:xfrm>
        </p:grpSpPr>
        <p:pic>
          <p:nvPicPr>
            <p:cNvPr id="374" name="Rectangle 4" descr=""/>
            <p:cNvPicPr/>
            <p:nvPr/>
          </p:nvPicPr>
          <p:blipFill>
            <a:blip r:embed="rId3"/>
            <a:stretch/>
          </p:blipFill>
          <p:spPr>
            <a:xfrm>
              <a:off x="249120" y="2865600"/>
              <a:ext cx="2854440" cy="38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304920" y="2895480"/>
              <a:ext cx="2743200" cy="36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ff00"/>
                  </a:solidFill>
                  <a:uFillTx/>
                  <a:latin typeface="Corbel"/>
                </a:rPr>
                <a:t>Coal</a:t>
              </a:r>
              <a:r>
                <a:rPr b="0" lang="en-US" sz="1800" spc="-1" strike="noStrike">
                  <a:solidFill>
                    <a:srgbClr val="ffffff"/>
                  </a:solidFill>
                  <a:latin typeface="Corbel"/>
                </a:rPr>
                <a:t> is an organic sedimentary rock that forms from the accumulation and preservation of plant materials, usually in a swamp environment. 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rbel"/>
                </a:rPr>
                <a:t>Coal is a combustible rock and along with oil and natural gas it is one of the three most important fossil fuels.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2" descr="METAANIM.GIF (355469 bytes)"/>
          <p:cNvPicPr/>
          <p:nvPr/>
        </p:nvPicPr>
        <p:blipFill>
          <a:blip r:embed="rId2"/>
          <a:stretch/>
        </p:blipFill>
        <p:spPr>
          <a:xfrm>
            <a:off x="5867280" y="1981080"/>
            <a:ext cx="3024360" cy="3597480"/>
          </a:xfrm>
          <a:prstGeom prst="rect">
            <a:avLst/>
          </a:prstGeom>
          <a:ln w="0">
            <a:noFill/>
          </a:ln>
        </p:spPr>
      </p:pic>
      <p:sp>
        <p:nvSpPr>
          <p:cNvPr id="378" name="Rectangle 3"/>
          <p:cNvSpPr/>
          <p:nvPr/>
        </p:nvSpPr>
        <p:spPr>
          <a:xfrm>
            <a:off x="5257800" y="6172200"/>
            <a:ext cx="3886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rbel"/>
              </a:rPr>
              <a:t>http://www.fi.edu/fellows/payton/rocks/create/metamorph.h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4"/>
          <p:cNvSpPr/>
          <p:nvPr/>
        </p:nvSpPr>
        <p:spPr>
          <a:xfrm>
            <a:off x="609480" y="2133720"/>
            <a:ext cx="5257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ad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eaning to change 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0ad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hanges with 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nd pressure, but remains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ol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0ad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Usually takes place deep i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 txBox="1"/>
          <p:nvPr/>
        </p:nvSpPr>
        <p:spPr>
          <a:xfrm>
            <a:off x="456840" y="1600200"/>
            <a:ext cx="8381880" cy="1806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8000"/>
          </a:bodyPr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rbel"/>
              </a:rPr>
              <a:t>Contact Metamorphism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– heated by nearby magma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ncreased temperature changes the composition of the rock, minerals are changed into new mineral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2" name="Picture 2" descr="hornfels"/>
          <p:cNvPicPr/>
          <p:nvPr/>
        </p:nvPicPr>
        <p:blipFill>
          <a:blip r:embed="rId2"/>
          <a:stretch/>
        </p:blipFill>
        <p:spPr>
          <a:xfrm>
            <a:off x="990720" y="2971800"/>
            <a:ext cx="3124080" cy="2343240"/>
          </a:xfrm>
          <a:prstGeom prst="rect">
            <a:avLst/>
          </a:prstGeom>
          <a:ln w="0">
            <a:noFill/>
          </a:ln>
        </p:spPr>
      </p:pic>
      <p:grpSp>
        <p:nvGrpSpPr>
          <p:cNvPr id="383" name="Rectangle 4"/>
          <p:cNvGrpSpPr/>
          <p:nvPr/>
        </p:nvGrpSpPr>
        <p:grpSpPr>
          <a:xfrm>
            <a:off x="96840" y="5303880"/>
            <a:ext cx="5060880" cy="1587240"/>
            <a:chOff x="96840" y="5303880"/>
            <a:chExt cx="5060880" cy="1587240"/>
          </a:xfrm>
        </p:grpSpPr>
        <p:pic>
          <p:nvPicPr>
            <p:cNvPr id="384" name="Rectangle 4" descr=""/>
            <p:cNvPicPr/>
            <p:nvPr/>
          </p:nvPicPr>
          <p:blipFill>
            <a:blip r:embed="rId3"/>
            <a:stretch/>
          </p:blipFill>
          <p:spPr>
            <a:xfrm>
              <a:off x="96840" y="5303880"/>
              <a:ext cx="5060880" cy="13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152280" y="5334120"/>
              <a:ext cx="49532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Corbel"/>
                </a:rPr>
                <a:t>Hornfels</a:t>
              </a:r>
              <a:r>
                <a:rPr b="0" lang="en-US" sz="2400" spc="-1" strike="noStrike">
                  <a:solidFill>
                    <a:srgbClr val="ffffff"/>
                  </a:solidFill>
                  <a:latin typeface="Corbel"/>
                </a:rPr>
                <a:t> is a fine-grained non-foliated metamorphic rock produced by contact metamorphism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6" name="Picture 4" descr="http://www.windows.ucar.edu/earth/geology/images/meta_contact2.gif"/>
          <p:cNvPicPr/>
          <p:nvPr/>
        </p:nvPicPr>
        <p:blipFill>
          <a:blip r:embed="rId4"/>
          <a:stretch/>
        </p:blipFill>
        <p:spPr>
          <a:xfrm>
            <a:off x="5257800" y="30481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6"/>
          <p:cNvSpPr/>
          <p:nvPr/>
        </p:nvSpPr>
        <p:spPr>
          <a:xfrm>
            <a:off x="3886200" y="6611760"/>
            <a:ext cx="5181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rbel"/>
              </a:rPr>
              <a:t>http://www.windows.ucar.edu/tour/link=/earth/geology/meta_contact.html&amp;edu=h igh&amp;fr=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 txBox="1"/>
          <p:nvPr/>
        </p:nvSpPr>
        <p:spPr>
          <a:xfrm>
            <a:off x="304560" y="1774440"/>
            <a:ext cx="5638680" cy="47782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Regional Metamorphism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– pressure builds up in rocks that is deep within the Earth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arge pieces of the Earth</a:t>
            </a:r>
            <a:r>
              <a:rPr b="0" lang="ja-JP" sz="3200" spc="-1" strike="noStrike">
                <a:solidFill>
                  <a:srgbClr val="000000"/>
                </a:solidFill>
                <a:latin typeface="Corbe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 crust collide and the rock is deformed and chemically changed by heat and pressur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0" name="Picture 2" descr="http://www.windows.ucar.edu/earth/geology/images/regional_meta.gif"/>
          <p:cNvPicPr/>
          <p:nvPr/>
        </p:nvPicPr>
        <p:blipFill>
          <a:blip r:embed="rId2"/>
          <a:stretch/>
        </p:blipFill>
        <p:spPr>
          <a:xfrm>
            <a:off x="6172200" y="1676520"/>
            <a:ext cx="2514600" cy="5029200"/>
          </a:xfrm>
          <a:prstGeom prst="rect">
            <a:avLst/>
          </a:prstGeom>
          <a:ln w="0">
            <a:noFill/>
          </a:ln>
        </p:spPr>
      </p:pic>
      <p:sp>
        <p:nvSpPr>
          <p:cNvPr id="391" name="Rectangle 6"/>
          <p:cNvSpPr/>
          <p:nvPr/>
        </p:nvSpPr>
        <p:spPr>
          <a:xfrm>
            <a:off x="304920" y="6400800"/>
            <a:ext cx="556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rbel"/>
              </a:rPr>
              <a:t>http://www.windows.ucar.edu/tour/link=/earth/geology/meta_regional.html&amp;edu=high&amp;fr=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 txBox="1"/>
          <p:nvPr/>
        </p:nvSpPr>
        <p:spPr>
          <a:xfrm>
            <a:off x="457200" y="1600200"/>
            <a:ext cx="8229600" cy="13492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Foliated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-  contain aligned grains of flat mineral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4" name="Picture 2" descr="gneiss"/>
          <p:cNvPicPr/>
          <p:nvPr/>
        </p:nvPicPr>
        <p:blipFill>
          <a:blip r:embed="rId2"/>
          <a:stretch/>
        </p:blipFill>
        <p:spPr>
          <a:xfrm>
            <a:off x="3581280" y="2819520"/>
            <a:ext cx="4953240" cy="3714480"/>
          </a:xfrm>
          <a:prstGeom prst="rect">
            <a:avLst/>
          </a:prstGeom>
          <a:ln w="0">
            <a:noFill/>
          </a:ln>
        </p:spPr>
      </p:pic>
      <p:grpSp>
        <p:nvGrpSpPr>
          <p:cNvPr id="395" name="Rectangle 4"/>
          <p:cNvGrpSpPr/>
          <p:nvPr/>
        </p:nvGrpSpPr>
        <p:grpSpPr>
          <a:xfrm>
            <a:off x="328680" y="2736720"/>
            <a:ext cx="3079800" cy="4147560"/>
            <a:chOff x="328680" y="2736720"/>
            <a:chExt cx="3079800" cy="4147560"/>
          </a:xfrm>
        </p:grpSpPr>
        <p:pic>
          <p:nvPicPr>
            <p:cNvPr id="396" name="Rectangle 4" descr=""/>
            <p:cNvPicPr/>
            <p:nvPr/>
          </p:nvPicPr>
          <p:blipFill>
            <a:blip r:embed="rId3"/>
            <a:stretch/>
          </p:blipFill>
          <p:spPr>
            <a:xfrm>
              <a:off x="328680" y="2736720"/>
              <a:ext cx="3079800" cy="389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380880" y="2766960"/>
              <a:ext cx="2971800" cy="41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orbel"/>
                </a:rPr>
                <a:t>Gneiss</a:t>
              </a:r>
              <a:r>
                <a:rPr b="0" lang="en-US" sz="2400" spc="-1" strike="noStrike">
                  <a:solidFill>
                    <a:srgbClr val="ffffff"/>
                  </a:solidFill>
                  <a:latin typeface="Corbel"/>
                </a:rPr>
                <a:t> is foliated metamorphic rock that has a banded appearance and is made up of granular mineral grains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rbel"/>
                </a:rPr>
                <a:t>It typically contains abundant quartz or feldspar minerals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600200"/>
            <a:ext cx="8229600" cy="13492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Non-Foliated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– mineral grains are not arranged in plains or band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400" name="Rectangle 4"/>
          <p:cNvGrpSpPr/>
          <p:nvPr/>
        </p:nvGrpSpPr>
        <p:grpSpPr>
          <a:xfrm>
            <a:off x="401760" y="2865600"/>
            <a:ext cx="3079800" cy="4147200"/>
            <a:chOff x="401760" y="2865600"/>
            <a:chExt cx="3079800" cy="4147200"/>
          </a:xfrm>
        </p:grpSpPr>
        <p:pic>
          <p:nvPicPr>
            <p:cNvPr id="401" name="Rectangle 4" descr=""/>
            <p:cNvPicPr/>
            <p:nvPr/>
          </p:nvPicPr>
          <p:blipFill>
            <a:blip r:embed="rId2"/>
            <a:stretch/>
          </p:blipFill>
          <p:spPr>
            <a:xfrm>
              <a:off x="401760" y="2865600"/>
              <a:ext cx="3079800" cy="38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>
              <a:off x="457200" y="2895480"/>
              <a:ext cx="2971800" cy="41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orbel"/>
                </a:rPr>
                <a:t>Marble</a:t>
              </a:r>
              <a:r>
                <a:rPr b="0" lang="en-US" sz="2400" spc="-1" strike="noStrike">
                  <a:solidFill>
                    <a:srgbClr val="ffffff"/>
                  </a:solidFill>
                  <a:latin typeface="Corbel"/>
                </a:rPr>
                <a:t> is a non-foliated metamorphic rock that is produced from the metamorphism of limestone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rbel"/>
                </a:rPr>
                <a:t>It is composed primarily of calcium carbonate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3" name="Picture 2" descr="marble"/>
          <p:cNvPicPr/>
          <p:nvPr/>
        </p:nvPicPr>
        <p:blipFill>
          <a:blip r:embed="rId3"/>
          <a:stretch/>
        </p:blipFill>
        <p:spPr>
          <a:xfrm>
            <a:off x="4038480" y="297180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457200" y="1600200"/>
            <a:ext cx="8229600" cy="13492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etermine if the following rock samples are foliated or non-foliated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6" name="Picture 2" descr="Amphibolite"/>
          <p:cNvPicPr/>
          <p:nvPr/>
        </p:nvPicPr>
        <p:blipFill>
          <a:blip r:embed="rId2"/>
          <a:stretch/>
        </p:blipFill>
        <p:spPr>
          <a:xfrm>
            <a:off x="152280" y="3276720"/>
            <a:ext cx="2895840" cy="2171520"/>
          </a:xfrm>
          <a:prstGeom prst="rect">
            <a:avLst/>
          </a:prstGeom>
          <a:ln w="0">
            <a:noFill/>
          </a:ln>
        </p:spPr>
      </p:pic>
      <p:sp>
        <p:nvSpPr>
          <p:cNvPr id="407" name="Rectangle 6"/>
          <p:cNvSpPr/>
          <p:nvPr/>
        </p:nvSpPr>
        <p:spPr>
          <a:xfrm>
            <a:off x="832680" y="5715000"/>
            <a:ext cx="15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Amphibol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4" descr="quartzite"/>
          <p:cNvPicPr/>
          <p:nvPr/>
        </p:nvPicPr>
        <p:blipFill>
          <a:blip r:embed="rId3"/>
          <a:stretch/>
        </p:blipFill>
        <p:spPr>
          <a:xfrm>
            <a:off x="3022560" y="3276720"/>
            <a:ext cx="2844720" cy="213336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8"/>
          <p:cNvSpPr/>
          <p:nvPr/>
        </p:nvSpPr>
        <p:spPr>
          <a:xfrm>
            <a:off x="3746160" y="56386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Quartz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0"/>
          <p:cNvSpPr/>
          <p:nvPr/>
        </p:nvSpPr>
        <p:spPr>
          <a:xfrm>
            <a:off x="6705720" y="571500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Phyll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8" descr="phyllite"/>
          <p:cNvPicPr/>
          <p:nvPr/>
        </p:nvPicPr>
        <p:blipFill>
          <a:blip r:embed="rId4"/>
          <a:stretch/>
        </p:blipFill>
        <p:spPr>
          <a:xfrm>
            <a:off x="5867280" y="3276720"/>
            <a:ext cx="2819520" cy="2114280"/>
          </a:xfrm>
          <a:prstGeom prst="rect">
            <a:avLst/>
          </a:prstGeom>
          <a:ln w="0">
            <a:noFill/>
          </a:ln>
        </p:spPr>
      </p:pic>
      <p:grpSp>
        <p:nvGrpSpPr>
          <p:cNvPr id="412" name="TextBox 12"/>
          <p:cNvGrpSpPr/>
          <p:nvPr/>
        </p:nvGrpSpPr>
        <p:grpSpPr>
          <a:xfrm>
            <a:off x="6424560" y="6218280"/>
            <a:ext cx="1476360" cy="493560"/>
            <a:chOff x="6424560" y="6218280"/>
            <a:chExt cx="1476360" cy="493560"/>
          </a:xfrm>
        </p:grpSpPr>
        <p:pic>
          <p:nvPicPr>
            <p:cNvPr id="413" name="TextBox 12" descr=""/>
            <p:cNvPicPr/>
            <p:nvPr/>
          </p:nvPicPr>
          <p:blipFill>
            <a:blip r:embed="rId5"/>
            <a:stretch/>
          </p:blipFill>
          <p:spPr>
            <a:xfrm>
              <a:off x="6424560" y="6218280"/>
              <a:ext cx="1476360" cy="4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6477120" y="62485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Corbel"/>
                </a:rPr>
                <a:t>Foliat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Be sure to complete your </a:t>
            </a:r>
            <a:r>
              <a:rPr b="0" lang="ja-JP" sz="32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ypes of Rocks</a:t>
            </a:r>
            <a:r>
              <a:rPr b="0" lang="ja-JP" sz="3200" spc="-1" strike="noStrike">
                <a:solidFill>
                  <a:srgbClr val="000000"/>
                </a:solidFill>
                <a:latin typeface="Corbe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notes as you view this presentation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457200" y="1774800"/>
            <a:ext cx="50292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 rock is a naturally occurring solid mixture of one or more minerals, or organic matte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Rocks are classified by how they are formed, their composition, and textur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Rocks change over time through the rock cycl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7" name="Picture 2" descr="C:\Documents and Settings\Liz\Local Settings\Temporary Internet Files\Content.IE5\3QA88QPI\MPj04383960000[1].jpg"/>
          <p:cNvPicPr/>
          <p:nvPr/>
        </p:nvPicPr>
        <p:blipFill>
          <a:blip r:embed="rId2"/>
          <a:stretch/>
        </p:blipFill>
        <p:spPr>
          <a:xfrm>
            <a:off x="5756400" y="1833480"/>
            <a:ext cx="3159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gneous rock begins as magma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agma can form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When rock is heated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When pressure is released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When rock changes compositio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agma freezes between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700 °C and 1,250 °C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agma is a mixture of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any mineral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0" name="Picture 2" descr="IGNANIM.GIF (230930 bytes)"/>
          <p:cNvPicPr/>
          <p:nvPr/>
        </p:nvPicPr>
        <p:blipFill>
          <a:blip r:embed="rId2"/>
          <a:stretch/>
        </p:blipFill>
        <p:spPr>
          <a:xfrm>
            <a:off x="5943600" y="2590920"/>
            <a:ext cx="2662200" cy="337176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4"/>
          <p:cNvSpPr/>
          <p:nvPr/>
        </p:nvSpPr>
        <p:spPr>
          <a:xfrm>
            <a:off x="5181480" y="632448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rbel"/>
              </a:rPr>
              <a:t>http://www.fi.edu/fellows/payton/rocks/create/igneous.h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1000"/>
          </a:bodyPr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Felsic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: light colored rocks that are rich in elements such as aluminum, potassium, silicon, and sodium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Mafic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: dark colored rocks that are rich in calcium, iron, and magnesium, poor in silic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Coarse-grained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:  takes longer to cool, giving mineral crystals more time to grow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Fine-grained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: cools quickly with little to no crystals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15" name="TextBox 3"/>
          <p:cNvSpPr/>
          <p:nvPr/>
        </p:nvSpPr>
        <p:spPr>
          <a:xfrm>
            <a:off x="457200" y="3124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Fels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4"/>
          <p:cNvSpPr/>
          <p:nvPr/>
        </p:nvSpPr>
        <p:spPr>
          <a:xfrm>
            <a:off x="380880" y="4724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Ma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5"/>
          <p:cNvSpPr/>
          <p:nvPr/>
        </p:nvSpPr>
        <p:spPr>
          <a:xfrm>
            <a:off x="2286000" y="17524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Coarse-Gra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6"/>
          <p:cNvSpPr/>
          <p:nvPr/>
        </p:nvSpPr>
        <p:spPr>
          <a:xfrm>
            <a:off x="5562720" y="175248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Fine-Gra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2" descr="granite"/>
          <p:cNvPicPr/>
          <p:nvPr/>
        </p:nvPicPr>
        <p:blipFill>
          <a:blip r:embed="rId2"/>
          <a:stretch/>
        </p:blipFill>
        <p:spPr>
          <a:xfrm>
            <a:off x="1752480" y="2286000"/>
            <a:ext cx="2845080" cy="21337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8" descr="rhyolite"/>
          <p:cNvPicPr/>
          <p:nvPr/>
        </p:nvPicPr>
        <p:blipFill>
          <a:blip r:embed="rId3"/>
          <a:stretch/>
        </p:blipFill>
        <p:spPr>
          <a:xfrm>
            <a:off x="4876920" y="2209680"/>
            <a:ext cx="2971800" cy="22291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0" descr="gabbro"/>
          <p:cNvPicPr/>
          <p:nvPr/>
        </p:nvPicPr>
        <p:blipFill>
          <a:blip r:embed="rId4"/>
          <a:stretch/>
        </p:blipFill>
        <p:spPr>
          <a:xfrm>
            <a:off x="1828800" y="457200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2" descr="basalt"/>
          <p:cNvPicPr/>
          <p:nvPr/>
        </p:nvPicPr>
        <p:blipFill>
          <a:blip r:embed="rId5"/>
          <a:stretch/>
        </p:blipFill>
        <p:spPr>
          <a:xfrm>
            <a:off x="4927680" y="4572000"/>
            <a:ext cx="2844720" cy="2133720"/>
          </a:xfrm>
          <a:prstGeom prst="rect">
            <a:avLst/>
          </a:prstGeom>
          <a:ln w="0">
            <a:noFill/>
          </a:ln>
        </p:spPr>
      </p:pic>
      <p:grpSp>
        <p:nvGrpSpPr>
          <p:cNvPr id="323" name="Rectangle 13"/>
          <p:cNvGrpSpPr/>
          <p:nvPr/>
        </p:nvGrpSpPr>
        <p:grpSpPr>
          <a:xfrm>
            <a:off x="2534400" y="4011480"/>
            <a:ext cx="1044720" cy="474840"/>
            <a:chOff x="2534400" y="4011480"/>
            <a:chExt cx="1044720" cy="474840"/>
          </a:xfrm>
        </p:grpSpPr>
        <p:pic>
          <p:nvPicPr>
            <p:cNvPr id="324" name="Rectangle 13" descr=""/>
            <p:cNvPicPr/>
            <p:nvPr/>
          </p:nvPicPr>
          <p:blipFill>
            <a:blip r:embed="rId6"/>
            <a:stretch/>
          </p:blipFill>
          <p:spPr>
            <a:xfrm>
              <a:off x="2535120" y="4011480"/>
              <a:ext cx="1043280" cy="47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534400" y="4038480"/>
              <a:ext cx="10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rbel"/>
                </a:rPr>
                <a:t>Grani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Rectangle 15"/>
          <p:cNvGrpSpPr/>
          <p:nvPr/>
        </p:nvGrpSpPr>
        <p:grpSpPr>
          <a:xfrm>
            <a:off x="2631960" y="6218280"/>
            <a:ext cx="1081080" cy="480960"/>
            <a:chOff x="2631960" y="6218280"/>
            <a:chExt cx="1081080" cy="480960"/>
          </a:xfrm>
        </p:grpSpPr>
        <p:pic>
          <p:nvPicPr>
            <p:cNvPr id="327" name="Rectangle 15" descr=""/>
            <p:cNvPicPr/>
            <p:nvPr/>
          </p:nvPicPr>
          <p:blipFill>
            <a:blip r:embed="rId7"/>
            <a:stretch/>
          </p:blipFill>
          <p:spPr>
            <a:xfrm>
              <a:off x="2633760" y="6218280"/>
              <a:ext cx="107928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2631960" y="6248520"/>
              <a:ext cx="108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rbel"/>
                </a:rPr>
                <a:t>Gabbr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Rectangle 16"/>
          <p:cNvGrpSpPr/>
          <p:nvPr/>
        </p:nvGrpSpPr>
        <p:grpSpPr>
          <a:xfrm>
            <a:off x="5815080" y="6218280"/>
            <a:ext cx="963720" cy="480960"/>
            <a:chOff x="5815080" y="6218280"/>
            <a:chExt cx="963720" cy="480960"/>
          </a:xfrm>
        </p:grpSpPr>
        <p:pic>
          <p:nvPicPr>
            <p:cNvPr id="330" name="Rectangle 16" descr=""/>
            <p:cNvPicPr/>
            <p:nvPr/>
          </p:nvPicPr>
          <p:blipFill>
            <a:blip r:embed="rId8"/>
            <a:stretch/>
          </p:blipFill>
          <p:spPr>
            <a:xfrm>
              <a:off x="5815080" y="6218280"/>
              <a:ext cx="96372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5818680" y="6248520"/>
              <a:ext cx="95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rbel"/>
                </a:rPr>
                <a:t>Basal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Rectangle 17"/>
          <p:cNvGrpSpPr/>
          <p:nvPr/>
        </p:nvGrpSpPr>
        <p:grpSpPr>
          <a:xfrm>
            <a:off x="5802120" y="4022640"/>
            <a:ext cx="1188000" cy="476280"/>
            <a:chOff x="5802120" y="4022640"/>
            <a:chExt cx="1188000" cy="476280"/>
          </a:xfrm>
        </p:grpSpPr>
        <p:pic>
          <p:nvPicPr>
            <p:cNvPr id="333" name="Rectangle 17" descr=""/>
            <p:cNvPicPr/>
            <p:nvPr/>
          </p:nvPicPr>
          <p:blipFill>
            <a:blip r:embed="rId9"/>
            <a:stretch/>
          </p:blipFill>
          <p:spPr>
            <a:xfrm>
              <a:off x="5803920" y="4022640"/>
              <a:ext cx="118260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5802120" y="4049640"/>
              <a:ext cx="118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rbel"/>
                </a:rPr>
                <a:t>Rhyolit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228240" y="1752120"/>
            <a:ext cx="5791320" cy="48006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Intrusive Igneous Rocks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: magma pushes into surrounding rock below the Earth</a:t>
            </a:r>
            <a:r>
              <a:rPr b="0" lang="ja-JP" sz="3200" spc="-1" strike="noStrike">
                <a:solidFill>
                  <a:srgbClr val="000000"/>
                </a:solidFill>
                <a:latin typeface="Corbe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 surfac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Extrusive Rocks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: forms when magma erupts onto the Earth</a:t>
            </a:r>
            <a:r>
              <a:rPr b="0" lang="ja-JP" sz="3200" spc="-1" strike="noStrike">
                <a:solidFill>
                  <a:srgbClr val="000000"/>
                </a:solidFill>
                <a:latin typeface="Corbe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 surface (lava),  cools quickly with very small or no crystals forme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7" name="Picture 2" descr="http://www.windows.ucar.edu/earth/geology/images/batholith_sm.gif"/>
          <p:cNvPicPr/>
          <p:nvPr/>
        </p:nvPicPr>
        <p:blipFill>
          <a:blip r:embed="rId2"/>
          <a:stretch/>
        </p:blipFill>
        <p:spPr>
          <a:xfrm>
            <a:off x="6095880" y="1523880"/>
            <a:ext cx="2743200" cy="21672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4" descr="http://www.windows.ucar.edu/earth/images/Stromboli_1_small.jpg"/>
          <p:cNvPicPr/>
          <p:nvPr/>
        </p:nvPicPr>
        <p:blipFill>
          <a:blip r:embed="rId3"/>
          <a:stretch/>
        </p:blipFill>
        <p:spPr>
          <a:xfrm>
            <a:off x="6400800" y="3809880"/>
            <a:ext cx="2181240" cy="281016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5"/>
          <p:cNvSpPr/>
          <p:nvPr/>
        </p:nvSpPr>
        <p:spPr>
          <a:xfrm>
            <a:off x="914400" y="6381720"/>
            <a:ext cx="4952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rbel"/>
              </a:rPr>
              <a:t>http://www.windows.ucar.edu/tour/link=/earth/geology/ig_intrusive.html&amp;edu=high&amp;fr=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1"/>
          <p:cNvSpPr/>
          <p:nvPr/>
        </p:nvSpPr>
        <p:spPr>
          <a:xfrm>
            <a:off x="-2925000" y="-2636640"/>
            <a:ext cx="14994000" cy="57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44280" tIns="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555555"/>
                </a:solidFill>
                <a:latin typeface="Arial"/>
                <a:ea typeface="Arial"/>
              </a:rPr>
              <a:t>Obsidia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555555"/>
                </a:solidFill>
                <a:latin typeface="Arial"/>
                <a:ea typeface="Arial"/>
              </a:rPr>
              <a:t>What is Obsidian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idian is a dark-colored volcanic glass that forms from the very rapid cooling of molten rock material. It cools so rapidly that crystals do not form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5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2" descr="obsidian"/>
          <p:cNvPicPr/>
          <p:nvPr/>
        </p:nvPicPr>
        <p:blipFill>
          <a:blip r:embed="rId2"/>
          <a:stretch/>
        </p:blipFill>
        <p:spPr>
          <a:xfrm>
            <a:off x="380880" y="2590920"/>
            <a:ext cx="5334120" cy="4000320"/>
          </a:xfrm>
          <a:prstGeom prst="rect">
            <a:avLst/>
          </a:prstGeom>
          <a:ln w="0">
            <a:noFill/>
          </a:ln>
        </p:spPr>
      </p:pic>
      <p:sp>
        <p:nvSpPr>
          <p:cNvPr id="343" name="TextBox 4"/>
          <p:cNvSpPr/>
          <p:nvPr/>
        </p:nvSpPr>
        <p:spPr>
          <a:xfrm>
            <a:off x="304920" y="1600200"/>
            <a:ext cx="861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Obsidian is a dark-colored volcanic glass that forms from the very rapid cooling of molten rock material. It cools so rapidly that crystals do not form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TextBox 5"/>
          <p:cNvGrpSpPr/>
          <p:nvPr/>
        </p:nvGrpSpPr>
        <p:grpSpPr>
          <a:xfrm>
            <a:off x="5815080" y="2560680"/>
            <a:ext cx="3232080" cy="3157560"/>
            <a:chOff x="5815080" y="2560680"/>
            <a:chExt cx="3232080" cy="3157560"/>
          </a:xfrm>
        </p:grpSpPr>
        <p:pic>
          <p:nvPicPr>
            <p:cNvPr id="345" name="TextBox 5" descr=""/>
            <p:cNvPicPr/>
            <p:nvPr/>
          </p:nvPicPr>
          <p:blipFill>
            <a:blip r:embed="rId3"/>
            <a:stretch/>
          </p:blipFill>
          <p:spPr>
            <a:xfrm>
              <a:off x="5815080" y="2560680"/>
              <a:ext cx="3232080" cy="31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5867280" y="2590920"/>
              <a:ext cx="312444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orbel"/>
                </a:rPr>
                <a:t>Is this rock Felsic or Mafic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orbel"/>
                </a:rPr>
                <a:t>Is it fine-grained or coarse-grained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orbel"/>
                </a:rPr>
                <a:t>Is this rock Intrusive or  Extrusive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TextBox 6"/>
          <p:cNvGrpSpPr/>
          <p:nvPr/>
        </p:nvGrpSpPr>
        <p:grpSpPr>
          <a:xfrm>
            <a:off x="5735520" y="6218280"/>
            <a:ext cx="3311640" cy="450720"/>
            <a:chOff x="5735520" y="6218280"/>
            <a:chExt cx="3311640" cy="450720"/>
          </a:xfrm>
        </p:grpSpPr>
        <p:pic>
          <p:nvPicPr>
            <p:cNvPr id="348" name="TextBox 6" descr=""/>
            <p:cNvPicPr/>
            <p:nvPr/>
          </p:nvPicPr>
          <p:blipFill>
            <a:blip r:embed="rId4"/>
            <a:stretch/>
          </p:blipFill>
          <p:spPr>
            <a:xfrm>
              <a:off x="5735520" y="6218280"/>
              <a:ext cx="331164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5791320" y="6248520"/>
              <a:ext cx="320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rbel"/>
                </a:rPr>
                <a:t>Mafic, fine grained, extrusiv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2" descr="SEDIANIM.GIF (205851 bytes)"/>
          <p:cNvPicPr/>
          <p:nvPr/>
        </p:nvPicPr>
        <p:blipFill>
          <a:blip r:embed="rId2"/>
          <a:stretch/>
        </p:blipFill>
        <p:spPr>
          <a:xfrm>
            <a:off x="6019920" y="2057400"/>
            <a:ext cx="2948040" cy="359100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3"/>
          <p:cNvSpPr/>
          <p:nvPr/>
        </p:nvSpPr>
        <p:spPr>
          <a:xfrm>
            <a:off x="5257800" y="6095880"/>
            <a:ext cx="3657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rbel"/>
              </a:rPr>
              <a:t>http://www.fi.edu/fellows/payton/rocks/create/sediment.h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Content Placeholder 2"/>
          <p:cNvSpPr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dimentary rock is formed by ero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diments are moved from                                 one place to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diments are deposited in                           layers, with the older o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n the bot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layers become compacted                         and cemented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55" name="Content Placeholder 2"/>
          <p:cNvSpPr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5120" indent="-345960">
              <a:lnSpc>
                <a:spcPct val="100000"/>
              </a:lnSpc>
              <a:buClr>
                <a:srgbClr val="f0ad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dimentary Rocks are formed at or near the   Earth</a:t>
            </a:r>
            <a:r>
              <a:rPr b="0" lang="ja-JP" sz="3200" spc="-1" strike="noStrike">
                <a:solidFill>
                  <a:srgbClr val="000000"/>
                </a:solidFill>
                <a:latin typeface="Corbe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 su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345960">
              <a:lnSpc>
                <a:spcPct val="100000"/>
              </a:lnSpc>
              <a:buClr>
                <a:srgbClr val="f0ad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No heat and pressure inv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345960">
              <a:lnSpc>
                <a:spcPct val="100000"/>
              </a:lnSpc>
              <a:buClr>
                <a:srgbClr val="f0ad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Strata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– layers of r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345960">
              <a:lnSpc>
                <a:spcPct val="100000"/>
              </a:lnSpc>
              <a:buClr>
                <a:srgbClr val="f0ad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345960">
              <a:lnSpc>
                <a:spcPct val="100000"/>
              </a:lnSpc>
              <a:buClr>
                <a:srgbClr val="f0ad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Stratification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– the process in                       which sedimentary rocks are                   arranged in lay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2" descr="C:\Documents and Settings\Liz\Local Settings\Temporary Internet Files\Content.IE5\W49KQFHU\MPj04033980000[1].jpg"/>
          <p:cNvPicPr/>
          <p:nvPr/>
        </p:nvPicPr>
        <p:blipFill>
          <a:blip r:embed="rId2"/>
          <a:stretch/>
        </p:blipFill>
        <p:spPr>
          <a:xfrm>
            <a:off x="6172200" y="2438280"/>
            <a:ext cx="2666880" cy="3998880"/>
          </a:xfrm>
          <a:prstGeom prst="rect">
            <a:avLst/>
          </a:prstGeom>
          <a:ln w="0">
            <a:noFill/>
          </a:ln>
        </p:spPr>
      </p:pic>
      <p:cxnSp>
        <p:nvCxnSpPr>
          <p:cNvPr id="357" name="Straight Arrow Connector 6"/>
          <p:cNvCxnSpPr/>
          <p:nvPr/>
        </p:nvCxnSpPr>
        <p:spPr>
          <a:xfrm flipV="1">
            <a:off x="4876920" y="3657240"/>
            <a:ext cx="2210400" cy="838800"/>
          </a:xfrm>
          <a:prstGeom prst="straightConnector1">
            <a:avLst/>
          </a:prstGeom>
          <a:ln cap="rnd" w="25560">
            <a:solidFill>
              <a:srgbClr val="f0ac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9T22:18:40Z</dcterms:created>
  <dc:creator>Liz</dc:creator>
  <dc:description/>
  <dc:language>en-US</dc:language>
  <cp:lastModifiedBy>austen cory</cp:lastModifiedBy>
  <dcterms:modified xsi:type="dcterms:W3CDTF">2013-10-30T21:47:37Z</dcterms:modified>
  <cp:revision>35</cp:revision>
  <dc:subject/>
  <dc:title>Types of Rock</dc:title>
</cp:coreProperties>
</file>