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6.jpeg" ContentType="image/jpeg"/>
  <Override PartName="/ppt/media/image14.gif" ContentType="image/gif"/>
  <Override PartName="/ppt/media/image1.png" ContentType="image/png"/>
  <Override PartName="/ppt/media/image9.jpeg" ContentType="image/jpeg"/>
  <Override PartName="/ppt/media/image3.gif" ContentType="image/gif"/>
  <Override PartName="/ppt/media/image6.wmf" ContentType="image/x-wmf"/>
  <Override PartName="/ppt/media/image7.png" ContentType="image/png"/>
  <Override PartName="/ppt/media/image11.wmf" ContentType="image/x-wmf"/>
  <Override PartName="/ppt/media/image5.jpeg" ContentType="image/jpeg"/>
  <Override PartName="/ppt/media/image12.gif" ContentType="image/gif"/>
  <Override PartName="/ppt/media/image15.png" ContentType="image/png"/>
  <Override PartName="/ppt/media/image2.png" ContentType="image/png"/>
  <Override PartName="/ppt/media/image4.jpeg" ContentType="image/jpe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A793-67A5-4614-A964-FA40794B5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A305-69B6-4013-8418-7FAAD5E3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67CB-22BE-4015-87F9-101971E4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156C-BF2F-4995-B51F-F62E41F77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0F11-9F0A-488D-9A27-2BB743A78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02CE-132A-4B6F-A12A-0EA583CA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382C-4312-4418-8C5D-8EB13A9F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9181-9C90-4AFF-878D-ADCE1DEC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EACC-A94D-4552-8319-87BA163D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C92B-EF46-4913-A58F-0F32FD16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28DF-038A-4665-A63E-AFD43AA8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C20B-AE8C-4984-8181-DEB27550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B564-07A4-40F4-B150-6EA2C9C6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40C6-642D-4126-958B-43604B9A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C046-ED5B-449C-AEF4-50A0059F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A13D-484D-4E3B-9F15-07077FEDA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722D-1F9C-4C99-9DEA-F1EDFB7E0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10B3-C7DA-4C46-97BE-C77629BE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1720-246B-4F1A-A969-B9884AF7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F7B3-310D-4F90-BD82-F72204A8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5128-4296-44B4-A489-D07E96AC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F42D-6C7B-4D98-8189-472A3E89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CFE3-E9F0-4F7A-888B-796A4785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D8CC-44FD-4653-AF9F-08EA6812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scifair_INSIDE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01560" indent="-2314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925560" indent="-1850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96000" indent="-1850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66440" indent="-1850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66440" indent="-185040">
              <a:spcBef>
                <a:spcPts val="79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66440" indent="-185040">
              <a:spcBef>
                <a:spcPts val="79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4A34-4E34-47E3-9129-0FC1F92EF7F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114560" y="1609560"/>
            <a:ext cx="6933960" cy="19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" descr="scifair_front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01560" indent="-2314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925560" indent="-1850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96000" indent="-1850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66440" indent="-1850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66440" indent="-185040">
              <a:spcBef>
                <a:spcPts val="79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66440" indent="-185040">
              <a:spcBef>
                <a:spcPts val="79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E48B-2A63-49AF-BC98-A448093F231C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how.com/how_2098268_fogsmoke-dry-ice-halloween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lassroomclipart.com/cgi-bin/kids/imageFolio.cgi?direct=Science/Chemistry&amp;img=54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4760" y="6858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Cha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676160" y="21333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How matter changes for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lt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4724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hange from the solid state to the liquid state is melt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emperature at which a substance changes from a solid to a liquid is called the melting poi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lting is when matter absorbs thermal energy, and its temperature ris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8" name="Picture 6" descr="C:\Documents and Settings\Geneva Baker\Application Data\Microsoft\Media Catalog\Downloaded Clips\cl0\en00275_.wmf"/>
          <p:cNvPicPr/>
          <p:nvPr/>
        </p:nvPicPr>
        <p:blipFill>
          <a:blip r:embed="rId1"/>
          <a:stretch/>
        </p:blipFill>
        <p:spPr>
          <a:xfrm>
            <a:off x="5334120" y="2666880"/>
            <a:ext cx="2971800" cy="2478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e Change Pyram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676520" y="4800600"/>
            <a:ext cx="990360" cy="914400"/>
          </a:xfrm>
          <a:prstGeom prst="rect">
            <a:avLst/>
          </a:prstGeom>
          <a:solidFill>
            <a:srgbClr val="eaa6e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6477120" y="4724280"/>
            <a:ext cx="533160" cy="109404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5"/>
          <p:cNvSpPr/>
          <p:nvPr/>
        </p:nvSpPr>
        <p:spPr>
          <a:xfrm>
            <a:off x="3886200" y="2209680"/>
            <a:ext cx="13716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3ffff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676520" y="57913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676520" y="5791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4076640" y="1752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6172200" y="5715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Line 10"/>
          <p:cNvSpPr/>
          <p:nvPr/>
        </p:nvSpPr>
        <p:spPr>
          <a:xfrm>
            <a:off x="2971800" y="5181480"/>
            <a:ext cx="3124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3390840" y="4724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lt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Line 12"/>
          <p:cNvSpPr/>
          <p:nvPr/>
        </p:nvSpPr>
        <p:spPr>
          <a:xfrm flipH="1">
            <a:off x="3047760" y="5638680"/>
            <a:ext cx="28191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339084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eez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Line 14"/>
          <p:cNvSpPr/>
          <p:nvPr/>
        </p:nvSpPr>
        <p:spPr>
          <a:xfrm>
            <a:off x="380880" y="19051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0" y="15238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bsorb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>
            <a:off x="7162920" y="1981080"/>
            <a:ext cx="12189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6705720" y="16002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eas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reez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362320" y="17521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hange from the liquid state to the solid state is calle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reez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emperature at which a substance changes from the liquid state to the solid state is called the freezing poi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ergy is released during freez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fter all of the liquid has become a solid, the temperature begins to decrease aga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5" descr="C:\Documents and Settings\Geneva Baker\Application Data\Microsoft\Media Catalog\Downloaded Clips\cl73\j0288942.gif"/>
          <p:cNvPicPr/>
          <p:nvPr/>
        </p:nvPicPr>
        <p:blipFill>
          <a:blip r:embed="rId1"/>
          <a:stretch/>
        </p:blipFill>
        <p:spPr>
          <a:xfrm>
            <a:off x="304920" y="2590920"/>
            <a:ext cx="2068560" cy="2361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e Change Pyram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1371600" y="4800600"/>
            <a:ext cx="990720" cy="914400"/>
          </a:xfrm>
          <a:prstGeom prst="rect">
            <a:avLst/>
          </a:prstGeom>
          <a:solidFill>
            <a:srgbClr val="eaa6e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7010280" y="4724280"/>
            <a:ext cx="533520" cy="109404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5"/>
          <p:cNvSpPr/>
          <p:nvPr/>
        </p:nvSpPr>
        <p:spPr>
          <a:xfrm>
            <a:off x="3886200" y="2209680"/>
            <a:ext cx="13716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3ffff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676520" y="57913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1371600" y="5867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4076640" y="1752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6705720" y="57913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6" name="Line 10"/>
          <p:cNvSpPr/>
          <p:nvPr/>
        </p:nvSpPr>
        <p:spPr>
          <a:xfrm>
            <a:off x="2666880" y="5181480"/>
            <a:ext cx="40388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3390840" y="4724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lt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Line 12"/>
          <p:cNvSpPr/>
          <p:nvPr/>
        </p:nvSpPr>
        <p:spPr>
          <a:xfrm flipH="1">
            <a:off x="2590560" y="5638680"/>
            <a:ext cx="38862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339084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eez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Line 14"/>
          <p:cNvSpPr/>
          <p:nvPr/>
        </p:nvSpPr>
        <p:spPr>
          <a:xfrm flipH="1" flipV="1">
            <a:off x="5105520" y="2971800"/>
            <a:ext cx="1828800" cy="1905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 rot="2700000">
            <a:off x="4609440" y="399996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aporiza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>
            <a:off x="380880" y="19051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0" y="15238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bsorb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7162920" y="1981080"/>
            <a:ext cx="12189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6705720" y="16002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eas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Vaporiz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038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hange from a liquid to a gas is known as vaporiz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emperature of the substance does not change during vaporizatio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ever, the substance absorbs thermal energ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5" descr="C:\Documents and Settings\Geneva Baker\Application Data\Microsoft\Media Catalog\Downloaded Clips\cl2d\j0112746.wmf"/>
          <p:cNvPicPr/>
          <p:nvPr/>
        </p:nvPicPr>
        <p:blipFill>
          <a:blip r:embed="rId1"/>
          <a:stretch/>
        </p:blipFill>
        <p:spPr>
          <a:xfrm>
            <a:off x="4572000" y="2438280"/>
            <a:ext cx="3821040" cy="295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Vaporiz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5486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forms of vaporization exi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porization that takes place below the surface of a liquid is called boil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emperature at which a liquid boils is called the boiling poi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porization that takes place at the surface of a liquid is called evapor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5" descr="C:\Documents and Settings\Geneva Baker\Application Data\Microsoft\Media Catalog\Downloaded Clips\cl9e\j0395749.gif"/>
          <p:cNvPicPr/>
          <p:nvPr/>
        </p:nvPicPr>
        <p:blipFill>
          <a:blip r:embed="rId1"/>
          <a:stretch/>
        </p:blipFill>
        <p:spPr>
          <a:xfrm>
            <a:off x="6400800" y="2743200"/>
            <a:ext cx="1440000" cy="2400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vapor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aporation, which occurs at temperatures below the boiling point, explains how puddles dry up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takes more than speed for water molecules to escape the liquid st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uring evaporation, these faster molecules also must be near the surface, heading in the right direction, and they must avoid hitting other water molecules as they leav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e Change Pyram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371600" y="4800600"/>
            <a:ext cx="990720" cy="914400"/>
          </a:xfrm>
          <a:prstGeom prst="rect">
            <a:avLst/>
          </a:prstGeom>
          <a:solidFill>
            <a:srgbClr val="eaa6e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7010280" y="4724280"/>
            <a:ext cx="533520" cy="109404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3886200" y="2209680"/>
            <a:ext cx="13716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3ffff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1676520" y="57913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371600" y="5867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4076640" y="1752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6705720" y="57913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2666880" y="5181480"/>
            <a:ext cx="40388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3390840" y="4724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lt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Line 12"/>
          <p:cNvSpPr/>
          <p:nvPr/>
        </p:nvSpPr>
        <p:spPr>
          <a:xfrm flipH="1">
            <a:off x="2590560" y="5638680"/>
            <a:ext cx="38862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339084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eez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 flipH="1" flipV="1">
            <a:off x="5105520" y="3048120"/>
            <a:ext cx="1828800" cy="1828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 rot="2700000">
            <a:off x="4609440" y="399996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aporiza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Line 16"/>
          <p:cNvSpPr/>
          <p:nvPr/>
        </p:nvSpPr>
        <p:spPr>
          <a:xfrm>
            <a:off x="5486400" y="2819520"/>
            <a:ext cx="1752480" cy="17524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 rot="2700000">
            <a:off x="5370840" y="32000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densa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0" name="Line 18"/>
          <p:cNvSpPr/>
          <p:nvPr/>
        </p:nvSpPr>
        <p:spPr>
          <a:xfrm>
            <a:off x="380880" y="19051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0" y="15238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bsorb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2" name="Line 20"/>
          <p:cNvSpPr/>
          <p:nvPr/>
        </p:nvSpPr>
        <p:spPr>
          <a:xfrm>
            <a:off x="7162920" y="1981080"/>
            <a:ext cx="12189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6705720" y="16002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eas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dens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a gas cools, its particles slow d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particles move slowly enough for their attractions to bring them together, droplets of liquid for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process, which is the opposite of vaporization, is calle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dens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5" descr="C:\Documents and Settings\Geneva Baker\Application Data\Microsoft\Media Catalog\Downloaded Clips\clad\j0432588.png"/>
          <p:cNvPicPr/>
          <p:nvPr/>
        </p:nvPicPr>
        <p:blipFill>
          <a:blip r:embed="rId1"/>
          <a:stretch/>
        </p:blipFill>
        <p:spPr>
          <a:xfrm>
            <a:off x="5562720" y="22860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22860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e Change Pyram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371600" y="4800600"/>
            <a:ext cx="990720" cy="914400"/>
          </a:xfrm>
          <a:prstGeom prst="rect">
            <a:avLst/>
          </a:prstGeom>
          <a:solidFill>
            <a:srgbClr val="eaa6e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7010280" y="4724280"/>
            <a:ext cx="533520" cy="109404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5"/>
          <p:cNvSpPr/>
          <p:nvPr/>
        </p:nvSpPr>
        <p:spPr>
          <a:xfrm>
            <a:off x="3886200" y="2209680"/>
            <a:ext cx="13716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3ffff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1676520" y="57913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1371600" y="5867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4076640" y="1752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6705720" y="57913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5" name="Line 10"/>
          <p:cNvSpPr/>
          <p:nvPr/>
        </p:nvSpPr>
        <p:spPr>
          <a:xfrm>
            <a:off x="2666880" y="5181480"/>
            <a:ext cx="40388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3390840" y="4724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lt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 flipH="1">
            <a:off x="2590560" y="5638680"/>
            <a:ext cx="38862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339084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eez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 flipH="1" flipV="1">
            <a:off x="5105520" y="3048120"/>
            <a:ext cx="1828800" cy="1828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0" name="Text Box 15"/>
          <p:cNvSpPr/>
          <p:nvPr/>
        </p:nvSpPr>
        <p:spPr>
          <a:xfrm rot="2700000">
            <a:off x="4609440" y="399996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aporiza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5486400" y="2819520"/>
            <a:ext cx="1752480" cy="17524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2" name="Text Box 17"/>
          <p:cNvSpPr/>
          <p:nvPr/>
        </p:nvSpPr>
        <p:spPr>
          <a:xfrm rot="2700000">
            <a:off x="5370840" y="32000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densa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3" name="Line 18"/>
          <p:cNvSpPr/>
          <p:nvPr/>
        </p:nvSpPr>
        <p:spPr>
          <a:xfrm flipV="1">
            <a:off x="2209680" y="2895120"/>
            <a:ext cx="1752840" cy="1676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4" name="Text Box 20"/>
          <p:cNvSpPr/>
          <p:nvPr/>
        </p:nvSpPr>
        <p:spPr>
          <a:xfrm rot="18900000">
            <a:off x="1600920" y="3428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ublima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5" name="Line 21"/>
          <p:cNvSpPr/>
          <p:nvPr/>
        </p:nvSpPr>
        <p:spPr>
          <a:xfrm>
            <a:off x="380880" y="19051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0" y="15238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bsorb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7" name="Line 23"/>
          <p:cNvSpPr/>
          <p:nvPr/>
        </p:nvSpPr>
        <p:spPr>
          <a:xfrm>
            <a:off x="7162920" y="1981080"/>
            <a:ext cx="12189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" name="Text Box 24"/>
          <p:cNvSpPr/>
          <p:nvPr/>
        </p:nvSpPr>
        <p:spPr>
          <a:xfrm>
            <a:off x="6705720" y="16002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eas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is energy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2666880"/>
            <a:ext cx="44197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ergy is the ability to do work or cause chang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" name="Picture 5" descr="C:\Documents and Settings\gbaker\Application Data\Microsoft\Media Catalog\Downloaded Clips\cl5d\j0234746.gif"/>
          <p:cNvPicPr/>
          <p:nvPr/>
        </p:nvPicPr>
        <p:blipFill>
          <a:blip r:embed="rId1"/>
          <a:stretch/>
        </p:blipFill>
        <p:spPr>
          <a:xfrm>
            <a:off x="5334120" y="2895480"/>
            <a:ext cx="2530440" cy="2530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bli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44197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 substances can change from the solid state to the gas state without ever becoming a liqui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uring this process, known as sublimation, the surface particles of the solid gain enough energy to become a ga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Picture 6" descr="http://i.ehow.com/images/GlobalPhoto/Articles/2098268/FinalDryIce-main_Full.jpg"/>
          <p:cNvPicPr/>
          <p:nvPr/>
        </p:nvPicPr>
        <p:blipFill>
          <a:blip r:embed="rId1"/>
          <a:stretch/>
        </p:blipFill>
        <p:spPr>
          <a:xfrm>
            <a:off x="5181480" y="2666880"/>
            <a:ext cx="3200400" cy="22575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7"/>
          <p:cNvSpPr/>
          <p:nvPr/>
        </p:nvSpPr>
        <p:spPr>
          <a:xfrm>
            <a:off x="5181480" y="5105520"/>
            <a:ext cx="327672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66"/>
                </a:solidFill>
                <a:latin typeface="Arial"/>
              </a:rPr>
              <a:t>Picture from </a:t>
            </a:r>
            <a:r>
              <a:rPr b="0" lang="en-US" sz="9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http://www.ehow.com/how_2098268_fogsmoke-dry-ice-halloween.html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inetic Energ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4419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inetic Energy is the energy of mo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articles with a lot of kinetic energy move fast and far apart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articles with little kinetic energy move slow &amp; close together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Picture 5" descr="642 im14"/>
          <p:cNvPicPr/>
          <p:nvPr/>
        </p:nvPicPr>
        <p:blipFill>
          <a:blip r:embed="rId1"/>
          <a:stretch/>
        </p:blipFill>
        <p:spPr>
          <a:xfrm>
            <a:off x="5638680" y="1905120"/>
            <a:ext cx="1981440" cy="1828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im05-solid particles"/>
          <p:cNvPicPr/>
          <p:nvPr/>
        </p:nvPicPr>
        <p:blipFill>
          <a:blip r:embed="rId2"/>
          <a:srcRect l="0" t="0" r="0" b="18557"/>
          <a:stretch/>
        </p:blipFill>
        <p:spPr>
          <a:xfrm>
            <a:off x="5715000" y="4267080"/>
            <a:ext cx="1935000" cy="16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4" name="Text Box 7"/>
          <p:cNvSpPr/>
          <p:nvPr/>
        </p:nvSpPr>
        <p:spPr>
          <a:xfrm>
            <a:off x="5715000" y="23623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Particles with a lot of kinetic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5791320" y="46483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Particles with little kinetic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2666880"/>
            <a:ext cx="41148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otal kinetic energy of all the particles in a sample of matter is called thermal energ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5" descr="C:\Documents and Settings\gbaker\Application Data\Microsoft\Media Catalog\Downloaded Clips\cl7c\j0310908.wmf"/>
          <p:cNvPicPr/>
          <p:nvPr/>
        </p:nvPicPr>
        <p:blipFill>
          <a:blip r:embed="rId1"/>
          <a:stretch/>
        </p:blipFill>
        <p:spPr>
          <a:xfrm>
            <a:off x="5257800" y="2438280"/>
            <a:ext cx="2476440" cy="3276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2666880"/>
            <a:ext cx="41911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mperature is the average kinetic energy of the individual particles in a subst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… if it is hot  more kinetic energy, if cold less kinetic energ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4495680" y="2362320"/>
            <a:ext cx="4419720" cy="36129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>
            <a:off x="4495680" y="2438280"/>
            <a:ext cx="129564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8380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Hea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14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ovement of thermal energy from a substance at a higher temperature to one at a lower temperature is called hea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Picture 5" descr="im20 boiling water"/>
          <p:cNvPicPr/>
          <p:nvPr/>
        </p:nvPicPr>
        <p:blipFill>
          <a:blip r:embed="rId1"/>
          <a:stretch/>
        </p:blipFill>
        <p:spPr>
          <a:xfrm>
            <a:off x="4724280" y="2362320"/>
            <a:ext cx="3962520" cy="2906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nging stat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2666880"/>
            <a:ext cx="4114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ter can change from one state to another when thermal energy is released or absorb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called a change of st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-7920" y="-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9" name="Picture 11" descr="1012_T-g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2057400"/>
            <a:ext cx="2307960" cy="4000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e Change Pyram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1676520" y="4800600"/>
            <a:ext cx="990360" cy="914400"/>
          </a:xfrm>
          <a:prstGeom prst="rect">
            <a:avLst/>
          </a:prstGeom>
          <a:solidFill>
            <a:srgbClr val="eaa6e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6477120" y="4724280"/>
            <a:ext cx="533160" cy="109404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7"/>
          <p:cNvSpPr/>
          <p:nvPr/>
        </p:nvSpPr>
        <p:spPr>
          <a:xfrm>
            <a:off x="3886200" y="2209680"/>
            <a:ext cx="13716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3ffff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1676520" y="57913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1676520" y="5791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4572000" y="31687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6172200" y="5715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>
            <a:off x="380880" y="19051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0" y="15238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bsorb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Line 15"/>
          <p:cNvSpPr/>
          <p:nvPr/>
        </p:nvSpPr>
        <p:spPr>
          <a:xfrm>
            <a:off x="7162920" y="1981080"/>
            <a:ext cx="12189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6705720" y="16002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eas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e Change Pyram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676520" y="4800600"/>
            <a:ext cx="990360" cy="914400"/>
          </a:xfrm>
          <a:prstGeom prst="rect">
            <a:avLst/>
          </a:prstGeom>
          <a:solidFill>
            <a:srgbClr val="eaa6e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6477120" y="4724280"/>
            <a:ext cx="533160" cy="109404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5"/>
          <p:cNvSpPr/>
          <p:nvPr/>
        </p:nvSpPr>
        <p:spPr>
          <a:xfrm>
            <a:off x="3886200" y="2209680"/>
            <a:ext cx="13716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3ffff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676520" y="57913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676520" y="5791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4076640" y="1752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6172200" y="5715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Line 10"/>
          <p:cNvSpPr/>
          <p:nvPr/>
        </p:nvSpPr>
        <p:spPr>
          <a:xfrm>
            <a:off x="2971800" y="518148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3390840" y="4724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lt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380880" y="19051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0" y="15238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bsorb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7162920" y="1981080"/>
            <a:ext cx="12189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6705720" y="16002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eas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9:49:03Z</dcterms:created>
  <dc:creator>Casa Grande</dc:creator>
  <dc:description/>
  <cp:keywords/>
  <dc:language>en-US</dc:language>
  <cp:lastModifiedBy>austen cory</cp:lastModifiedBy>
  <dcterms:modified xsi:type="dcterms:W3CDTF">2013-09-02T05:16:29Z</dcterms:modified>
  <cp:revision>6</cp:revision>
  <dc:subject/>
  <dc:title>State Chan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731033</vt:lpwstr>
  </property>
</Properties>
</file>