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6.jpeg" ContentType="image/jpeg"/>
  <Override PartName="/ppt/media/image14.gif" ContentType="image/gif"/>
  <Override PartName="/ppt/media/image1.png" ContentType="image/png"/>
  <Override PartName="/ppt/media/image9.jpeg" ContentType="image/jpeg"/>
  <Override PartName="/ppt/media/image3.gif" ContentType="image/gif"/>
  <Override PartName="/ppt/media/image6.wmf" ContentType="image/x-wmf"/>
  <Override PartName="/ppt/media/image7.png" ContentType="image/png"/>
  <Override PartName="/ppt/media/image11.wmf" ContentType="image/x-wmf"/>
  <Override PartName="/ppt/media/image5.jpeg" ContentType="image/jpeg"/>
  <Override PartName="/ppt/media/image12.gif" ContentType="image/gif"/>
  <Override PartName="/ppt/media/image15.png" ContentType="image/png"/>
  <Override PartName="/ppt/media/image2.png" ContentType="image/png"/>
  <Override PartName="/ppt/media/image4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0AD-27BA-4E70-A998-908B7ABE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231-ADC1-4D73-9E6D-1B7B5E35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846-3788-4B28-8B07-2B1BA33A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1CE3-1B97-4585-A5D5-D917DA4F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B13E-0A11-47E0-B758-40D13091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97EF-DF09-46AB-BEF1-C7964D71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1463-58AD-4BF8-99A2-C0F1F272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58A2-B08A-45CD-9D6B-2E092513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0726-D5CA-4ED6-B48E-37970140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C47F-1F64-43D9-A42C-A833133A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BF4F-1400-40BF-9056-3C347285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686-575B-4261-9F8C-169D0D72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3D79-63DF-41D1-BE0E-755E9EA3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52EA-6A96-484A-8603-BF6AD3D7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DD86-D2C3-4B83-8C1E-6C0F2E1C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B814-4983-428C-A32B-AE1B8F6C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CC37-C371-4C49-B60F-D63163E5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2A2B-0D30-45DC-828A-0EC1C549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C556-3192-4650-B945-56AD04A0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393-ACE0-45D7-B651-3BABED6A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013B-28B1-43AB-9A8F-47FA7359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091E-DA56-475F-AA6D-8D970597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950E-C835-4CB9-A4A5-8F5E57A0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36E-B4E5-43DF-89D6-7637BDAC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scifair_INSIDE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2556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9600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6644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8B87-341C-4471-B489-93A7B17DE91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scifair_front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2556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9600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66440" indent="-1850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66440" indent="-185040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AF4C-4ED6-49BE-8384-66DC55D69150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how.com/how_2098268_fogsmoke-dry-ice-halloween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lassroomclipart.com/cgi-bin/kids/imageFolio.cgi?direct=Science/Chemistry&amp;img=54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Cha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76160" y="21333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How matter changes fo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724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ange from the solid state to the liquid state is melt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at which a substance changes from a solid to a liquid is called the melting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lting is when matter absorbs thermal energy, and its temperature ris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Picture 6" descr="C:\Documents and Settings\Geneva Baker\Application Data\Microsoft\Media Catalog\Downloaded Clips\cl0\en00275_.wmf"/>
          <p:cNvPicPr/>
          <p:nvPr/>
        </p:nvPicPr>
        <p:blipFill>
          <a:blip r:embed="rId1"/>
          <a:stretch/>
        </p:blipFill>
        <p:spPr>
          <a:xfrm>
            <a:off x="5334120" y="2666880"/>
            <a:ext cx="2971800" cy="2478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676520" y="4800600"/>
            <a:ext cx="99036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533160" cy="10940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6765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1722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2971800" y="5181480"/>
            <a:ext cx="3124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 flipH="1">
            <a:off x="3047760" y="5638680"/>
            <a:ext cx="28191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362320" y="17521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ange from the liquid state to the solid state is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at which a substance changes from the liquid state to the solid state is called the freezing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is released during freez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all of the liquid has become a solid, the temperature begins to decrease ag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5" descr="C:\Documents and Settings\Geneva Baker\Application Data\Microsoft\Media Catalog\Downloaded Clips\cl73\j0288942.gif"/>
          <p:cNvPicPr/>
          <p:nvPr/>
        </p:nvPicPr>
        <p:blipFill>
          <a:blip r:embed="rId1"/>
          <a:stretch/>
        </p:blipFill>
        <p:spPr>
          <a:xfrm>
            <a:off x="304920" y="2590920"/>
            <a:ext cx="2068560" cy="236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371600" y="4800600"/>
            <a:ext cx="99072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533520" cy="109404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37160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705720" y="579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2666880" y="518148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 flipH="1">
            <a:off x="2590560" y="563868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 flipH="1" flipV="1">
            <a:off x="5105520" y="2971800"/>
            <a:ext cx="1828800" cy="1905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 rot="2700000">
            <a:off x="4609440" y="39999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ange from a liquid to a gas is known as vaporiz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of the substance does not change during vaporiza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, the substance absorbs thermal energ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C:\Documents and Settings\Geneva Baker\Application Data\Microsoft\Media Catalog\Downloaded Clips\cl2d\j0112746.wmf"/>
          <p:cNvPicPr/>
          <p:nvPr/>
        </p:nvPicPr>
        <p:blipFill>
          <a:blip r:embed="rId1"/>
          <a:stretch/>
        </p:blipFill>
        <p:spPr>
          <a:xfrm>
            <a:off x="4572000" y="2438280"/>
            <a:ext cx="3821040" cy="29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forms of vaporization exi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porization that takes place below the surface of a liquid is called boil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mperature at which a liquid boils is called the boiling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porization that takes place at the surface of a liquid is called evapor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5" descr="C:\Documents and Settings\Geneva Baker\Application Data\Microsoft\Media Catalog\Downloaded Clips\cl9e\j0395749.gif"/>
          <p:cNvPicPr/>
          <p:nvPr/>
        </p:nvPicPr>
        <p:blipFill>
          <a:blip r:embed="rId1"/>
          <a:stretch/>
        </p:blipFill>
        <p:spPr>
          <a:xfrm>
            <a:off x="6400800" y="2743200"/>
            <a:ext cx="1440000" cy="2400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apor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poration, which occurs at temperatures below the boiling point, explains how puddles dry u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takes more than speed for water molecules to escape the liquid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evaporation, these faster molecules also must be near the surface, heading in the right direction, and they must avoid hitting other water molecules as they leav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371600" y="4800600"/>
            <a:ext cx="99072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533520" cy="10940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37160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6705720" y="579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2666880" y="518148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 flipH="1">
            <a:off x="2590560" y="563868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 flipV="1">
            <a:off x="5105520" y="3048120"/>
            <a:ext cx="182880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 rot="2700000">
            <a:off x="4609440" y="39999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5486400" y="2819520"/>
            <a:ext cx="1752480" cy="1752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 rot="2700000">
            <a:off x="5370840" y="32000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gas cools, its particles slow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particles move slowly enough for their attractions to bring them together, droplets of liquid for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process, which is the opposite of vaporization, is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5" descr="C:\Documents and Settings\Geneva Baker\Application Data\Microsoft\Media Catalog\Downloaded Clips\clad\j0432588.png"/>
          <p:cNvPicPr/>
          <p:nvPr/>
        </p:nvPicPr>
        <p:blipFill>
          <a:blip r:embed="rId1"/>
          <a:stretch/>
        </p:blipFill>
        <p:spPr>
          <a:xfrm>
            <a:off x="5562720" y="2286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22860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371600" y="4800600"/>
            <a:ext cx="99072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533520" cy="109404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37160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6705720" y="5791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>
            <a:off x="2666880" y="518148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2590560" y="5638680"/>
            <a:ext cx="38862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339084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 flipV="1">
            <a:off x="5105520" y="3048120"/>
            <a:ext cx="182880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 rot="2700000">
            <a:off x="4609440" y="39999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poriz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5486400" y="2819520"/>
            <a:ext cx="1752480" cy="1752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 rot="2700000">
            <a:off x="5370840" y="32000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 flipV="1">
            <a:off x="2209680" y="2895120"/>
            <a:ext cx="1752840" cy="1676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 rot="18900000">
            <a:off x="1600920" y="342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blimat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is energ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4419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is the ability to do work or cause chan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5" descr="C:\Documents and Settings\gbaker\Application Data\Microsoft\Media Catalog\Downloaded Clips\cl5d\j0234746.gif"/>
          <p:cNvPicPr/>
          <p:nvPr/>
        </p:nvPicPr>
        <p:blipFill>
          <a:blip r:embed="rId1"/>
          <a:stretch/>
        </p:blipFill>
        <p:spPr>
          <a:xfrm>
            <a:off x="5334120" y="2895480"/>
            <a:ext cx="2530440" cy="2530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li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419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substances can change from the solid state to the gas state without ever becoming a liqui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this process, known as sublimation, the surface particles of the solid gain enough energy to become a g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6" descr="http://i.ehow.com/images/GlobalPhoto/Articles/2098268/FinalDryIce-main_Full.jpg"/>
          <p:cNvPicPr/>
          <p:nvPr/>
        </p:nvPicPr>
        <p:blipFill>
          <a:blip r:embed="rId1"/>
          <a:stretch/>
        </p:blipFill>
        <p:spPr>
          <a:xfrm>
            <a:off x="5181480" y="2666880"/>
            <a:ext cx="3200400" cy="22575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7"/>
          <p:cNvSpPr/>
          <p:nvPr/>
        </p:nvSpPr>
        <p:spPr>
          <a:xfrm>
            <a:off x="5181480" y="5105520"/>
            <a:ext cx="32767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Arial"/>
              </a:rPr>
              <a:t>Picture from </a:t>
            </a:r>
            <a:r>
              <a:rPr b="0" lang="en-US" sz="9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ww.ehow.com/how_2098268_fogsmoke-dry-ice-halloween.html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inetic Ener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inetic Energy is the energy of mo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articles with a lot of kinetic energy move fast and far apart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articles with little kinetic energy move slow &amp; close together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5" descr="642 im14"/>
          <p:cNvPicPr/>
          <p:nvPr/>
        </p:nvPicPr>
        <p:blipFill>
          <a:blip r:embed="rId1"/>
          <a:stretch/>
        </p:blipFill>
        <p:spPr>
          <a:xfrm>
            <a:off x="5638680" y="1905120"/>
            <a:ext cx="1981440" cy="1828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im05-solid particles"/>
          <p:cNvPicPr/>
          <p:nvPr/>
        </p:nvPicPr>
        <p:blipFill>
          <a:blip r:embed="rId2"/>
          <a:srcRect l="0" t="0" r="0" b="18557"/>
          <a:stretch/>
        </p:blipFill>
        <p:spPr>
          <a:xfrm>
            <a:off x="5715000" y="4267080"/>
            <a:ext cx="1935000" cy="16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" name="Text Box 7"/>
          <p:cNvSpPr/>
          <p:nvPr/>
        </p:nvSpPr>
        <p:spPr>
          <a:xfrm>
            <a:off x="5715000" y="2362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Particles with a lot of kinetic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791320" y="4648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Particles with little kinetic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4114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tal kinetic energy of all the particles in a sample of matter is called thermal energ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5" descr="C:\Documents and Settings\gbaker\Application Data\Microsoft\Media Catalog\Downloaded Clips\cl7c\j0310908.wmf"/>
          <p:cNvPicPr/>
          <p:nvPr/>
        </p:nvPicPr>
        <p:blipFill>
          <a:blip r:embed="rId1"/>
          <a:stretch/>
        </p:blipFill>
        <p:spPr>
          <a:xfrm>
            <a:off x="5257800" y="2438280"/>
            <a:ext cx="2476440" cy="327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2666880"/>
            <a:ext cx="41911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erature is the average kinetic energy of the individual particles in a subst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… if it is hot  more kinetic energy, if cold less kinetic energ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4495680" y="2362320"/>
            <a:ext cx="4419720" cy="36129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4495680" y="2438280"/>
            <a:ext cx="12956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ea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14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vement of thermal energy from a substance at a higher temperature to one at a lower temperature is called hea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5" descr="im20 boiling water"/>
          <p:cNvPicPr/>
          <p:nvPr/>
        </p:nvPicPr>
        <p:blipFill>
          <a:blip r:embed="rId1"/>
          <a:stretch/>
        </p:blipFill>
        <p:spPr>
          <a:xfrm>
            <a:off x="4724280" y="2362320"/>
            <a:ext cx="3962520" cy="2906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nging stat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ter can change from one state to another when thermal energy is released or absorb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called a change of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-7920" y="-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9" name="Picture 11" descr="1012_T-g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057400"/>
            <a:ext cx="2307960" cy="4000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676520" y="4800600"/>
            <a:ext cx="99036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533160" cy="10940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7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6765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4572000" y="3168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1722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 Change Pyram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676520" y="4800600"/>
            <a:ext cx="990360" cy="914400"/>
          </a:xfrm>
          <a:prstGeom prst="rect">
            <a:avLst/>
          </a:prstGeom>
          <a:solidFill>
            <a:srgbClr val="eaa6e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533160" cy="10940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5"/>
          <p:cNvSpPr/>
          <p:nvPr/>
        </p:nvSpPr>
        <p:spPr>
          <a:xfrm>
            <a:off x="3886200" y="22096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3ffff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676520" y="57913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6765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076640" y="1752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1722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2971800" y="5181480"/>
            <a:ext cx="3124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39084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80880" y="1905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0" y="15238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bsorb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7162920" y="1981080"/>
            <a:ext cx="12189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705720" y="16002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leas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rmal energ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9:49:03Z</dcterms:created>
  <dc:creator>Casa Grande</dc:creator>
  <dc:description/>
  <cp:keywords/>
  <dc:language>en-US</dc:language>
  <cp:lastModifiedBy>austen cory</cp:lastModifiedBy>
  <dcterms:modified xsi:type="dcterms:W3CDTF">2013-09-02T05:16:29Z</dcterms:modified>
  <cp:revision>6</cp:revision>
  <dc:subject/>
  <dc:title>State Ch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31033</vt:lpwstr>
  </property>
</Properties>
</file>