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6.jpeg" ContentType="image/jpeg"/>
  <Override PartName="/ppt/media/image14.gif" ContentType="image/gif"/>
  <Override PartName="/ppt/media/image1.png" ContentType="image/png"/>
  <Override PartName="/ppt/media/image9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5.jpeg" ContentType="image/jpeg"/>
  <Override PartName="/ppt/media/image12.gif" ContentType="image/gif"/>
  <Override PartName="/ppt/media/image15.png" ContentType="image/png"/>
  <Override PartName="/ppt/media/image2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4E6-8259-4166-91B8-5445EBC8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FC0-4579-4E38-B83C-A067B31A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3C3-CEA7-433A-913A-BD3F5FA0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7F2-3C7A-41C2-89E7-CBF2C6B1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EAC6-756D-480E-AF1C-ED02B6E7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6A00-9868-40F1-B69D-C7F54EF9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75BB-052E-44A6-89EB-8AB86414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9EFA-AB2C-454F-BFDF-90044E01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F0D2-1DA6-4649-8602-E0959120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7623-98A7-44B6-8C03-40B0267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B3B5-3E37-4F9D-90E0-D2BAEFA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14F-4EEC-40B4-A806-63522468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7B8D-5196-4D71-B81F-63DBD663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67AF-6E40-410A-99ED-D9ACB9DD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52C6-9990-436E-B1C3-F8DD50C2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41A3-3126-4795-BEC7-3017F105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A5C0-3800-490A-84F8-6975C637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774-FB71-4728-8A7F-2B0BDE0A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851-D78A-46DC-B451-DBE4AEE7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DE6-F228-4A4D-86FF-F0DB2B42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2BB-731C-43D9-B39C-676D0B72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99D-77EF-4448-89A1-F00CCA0F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7FC-C178-4627-A755-D9956F12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1B2-CE58-45AA-965B-0FF12135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3BB-075B-4101-B94B-83F02935CF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7971-47E7-452E-9C80-5350F1C5DB7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how.com/how_2098268_fogsmoke-dry-ice-hallowee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lassroomclipart.com/cgi-bin/kids/imageFolio.cgi?direct=Science/Chemistry&amp;img=5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Ch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How matter changes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solid state to the liquid state is mel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a solid to a liquid is called the melt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lting is when matter absorbs thermal energy, and its temperature ri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6" descr="C:\Documents and Settings\Geneva Baker\Application Data\Microsoft\Media Catalog\Downloaded Clips\cl0\en00275_.wmf"/>
          <p:cNvPicPr/>
          <p:nvPr/>
        </p:nvPicPr>
        <p:blipFill>
          <a:blip r:embed="rId1"/>
          <a:stretch/>
        </p:blipFill>
        <p:spPr>
          <a:xfrm>
            <a:off x="5334120" y="2666880"/>
            <a:ext cx="2971800" cy="24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3047760" y="5638680"/>
            <a:ext cx="2819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liquid state to the solid state is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the liquid state to the solid state is called the freez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released during freez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all of the liquid has become a solid, the temperature begins to decrease ag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C:\Documents and Settings\Geneva Baker\Application Data\Microsoft\Media Catalog\Downloaded Clips\cl73\j0288942.gif"/>
          <p:cNvPicPr/>
          <p:nvPr/>
        </p:nvPicPr>
        <p:blipFill>
          <a:blip r:embed="rId1"/>
          <a:stretch/>
        </p:blipFill>
        <p:spPr>
          <a:xfrm>
            <a:off x="304920" y="2590920"/>
            <a:ext cx="206856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 flipV="1">
            <a:off x="5105520" y="2971800"/>
            <a:ext cx="18288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a liquid to a gas is known as vapor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of the substance does not change during vaporiz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substance absorbs thermal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C:\Documents and Settings\Geneva Baker\Application Data\Microsoft\Media Catalog\Downloaded Clips\cl2d\j0112746.wmf"/>
          <p:cNvPicPr/>
          <p:nvPr/>
        </p:nvPicPr>
        <p:blipFill>
          <a:blip r:embed="rId1"/>
          <a:stretch/>
        </p:blipFill>
        <p:spPr>
          <a:xfrm>
            <a:off x="4572000" y="2438280"/>
            <a:ext cx="382104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forms of vaporization ex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below the surface of a liquid is called bo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liquid boils is called the boil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at the surface of a liquid is called evapo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C:\Documents and Settings\Geneva Baker\Application Data\Microsoft\Media Catalog\Downloaded Clips\cl9e\j0395749.gif"/>
          <p:cNvPicPr/>
          <p:nvPr/>
        </p:nvPicPr>
        <p:blipFill>
          <a:blip r:embed="rId1"/>
          <a:stretch/>
        </p:blipFill>
        <p:spPr>
          <a:xfrm>
            <a:off x="6400800" y="2743200"/>
            <a:ext cx="1440000" cy="24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po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poration, which occurs at temperatures below the boiling point, explains how puddles dry 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takes more than speed for water molecules to escape the liquid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evaporation, these faster molecules also must be near the surface, heading in the right direction, and they must avoid hitting other water molecules as they lea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gas cools, its particles slow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rticles move slowly enough for their attractions to bring them together, droplets of liquid for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cess, which is the opposite of vaporization,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C:\Documents and Settings\Geneva Baker\Application Data\Microsoft\Media Catalog\Downloaded Clips\clad\j0432588.png"/>
          <p:cNvPicPr/>
          <p:nvPr/>
        </p:nvPicPr>
        <p:blipFill>
          <a:blip r:embed="rId1"/>
          <a:stretch/>
        </p:blipFill>
        <p:spPr>
          <a:xfrm>
            <a:off x="556272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2860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2209680" y="2895120"/>
            <a:ext cx="175284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 rot="18900000">
            <a:off x="1600920" y="342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energ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the ability to do work or cause chan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C:\Documents and Settings\gbaker\Application Data\Microsoft\Media Catalog\Downloaded Clips\cl5d\j0234746.gif"/>
          <p:cNvPicPr/>
          <p:nvPr/>
        </p:nvPicPr>
        <p:blipFill>
          <a:blip r:embed="rId1"/>
          <a:stretch/>
        </p:blipFill>
        <p:spPr>
          <a:xfrm>
            <a:off x="5334120" y="2895480"/>
            <a:ext cx="2530440" cy="253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419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substances can change from the solid state to the gas state without ever becoming a liqu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this process, known as sublimation, the surface particles of the solid gain enough energy to become a g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6" descr="http://i.ehow.com/images/GlobalPhoto/Articles/2098268/FinalDryIce-main_Full.jpg"/>
          <p:cNvPicPr/>
          <p:nvPr/>
        </p:nvPicPr>
        <p:blipFill>
          <a:blip r:embed="rId1"/>
          <a:stretch/>
        </p:blipFill>
        <p:spPr>
          <a:xfrm>
            <a:off x="5181480" y="2666880"/>
            <a:ext cx="3200400" cy="22575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5181480" y="5105520"/>
            <a:ext cx="3276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Arial"/>
              </a:rPr>
              <a:t>Picture from </a:t>
            </a:r>
            <a:r>
              <a:rPr b="0" lang="en-US" sz="9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ehow.com/how_2098268_fogsmoke-dry-ice-halloween.html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etic Energy is the energy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a lot of kinetic energy move fast and far apar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little kinetic energy move slow &amp; close together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5" descr="642 im14"/>
          <p:cNvPicPr/>
          <p:nvPr/>
        </p:nvPicPr>
        <p:blipFill>
          <a:blip r:embed="rId1"/>
          <a:stretch/>
        </p:blipFill>
        <p:spPr>
          <a:xfrm>
            <a:off x="5638680" y="190512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05-solid particles"/>
          <p:cNvPicPr/>
          <p:nvPr/>
        </p:nvPicPr>
        <p:blipFill>
          <a:blip r:embed="rId2"/>
          <a:srcRect l="0" t="0" r="0" b="18557"/>
          <a:stretch/>
        </p:blipFill>
        <p:spPr>
          <a:xfrm>
            <a:off x="5715000" y="4267080"/>
            <a:ext cx="1935000" cy="16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Text Box 7"/>
          <p:cNvSpPr/>
          <p:nvPr/>
        </p:nvSpPr>
        <p:spPr>
          <a:xfrm>
            <a:off x="571500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a lot of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791320" y="4648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little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kinetic energy of all the particles in a sample of matter is called thermal energ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C:\Documents and Settings\gbaker\Application Data\Microsoft\Media Catalog\Downloaded Clips\cl7c\j0310908.wmf"/>
          <p:cNvPicPr/>
          <p:nvPr/>
        </p:nvPicPr>
        <p:blipFill>
          <a:blip r:embed="rId1"/>
          <a:stretch/>
        </p:blipFill>
        <p:spPr>
          <a:xfrm>
            <a:off x="5257800" y="2438280"/>
            <a:ext cx="247644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 is the average kinetic energy of the individual particles in a sub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… if it is hot  more kinetic energy, if cold less kinetic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3612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9568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ea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ment of thermal energy from a substance at a higher temperature to one at a lower temperature is called he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5" descr="im20 boiling water"/>
          <p:cNvPicPr/>
          <p:nvPr/>
        </p:nvPicPr>
        <p:blipFill>
          <a:blip r:embed="rId1"/>
          <a:stretch/>
        </p:blipFill>
        <p:spPr>
          <a:xfrm>
            <a:off x="4724280" y="2362320"/>
            <a:ext cx="3962520" cy="29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ing sta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can change from one state to another when thermal energy is released or absorb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a change of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-7920" y="-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Picture 11" descr="1012_T-g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057400"/>
            <a:ext cx="2307960" cy="400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572000" y="3168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49:03Z</dcterms:created>
  <dc:creator>Casa Grande</dc:creator>
  <dc:description/>
  <cp:keywords/>
  <dc:language>en-US</dc:language>
  <cp:lastModifiedBy>austen cory</cp:lastModifiedBy>
  <dcterms:modified xsi:type="dcterms:W3CDTF">2013-09-02T05:16:29Z</dcterms:modified>
  <cp:revision>6</cp:revision>
  <dc:subject/>
  <dc:title>State Ch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