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770A-1EC5-4DB1-9032-5A49567E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AD68-AED4-41BF-AAEA-DE35E900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A64D-9E8D-438A-827C-170CFA31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663D-C29D-4FA3-931F-7DAA6982A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6D82-28B4-4A27-A4CE-27C92F54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9C55-E27D-4D5F-9D33-F12B08B2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80C3-DF0E-4C5E-91E7-5D2EC8E3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04D8-4779-40EC-AB78-CF3D1386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5740-97BF-4ACB-B1E1-6FD4EEB7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6B16-24F4-4B5A-8868-D785DDDB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2C10-71A2-497E-B082-FBCAE265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E241-5012-439D-917C-A6606725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78A8-4038-4A26-8016-A9317395A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4191120"/>
            <a:ext cx="2514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lecules are moving from              LOW TO HIGH concent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6781680"/>
            <a:ext cx="1981080" cy="195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called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ctive transp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y is required  to force the molecules across the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6781680"/>
            <a:ext cx="1828800" cy="19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smos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nergy is required to make the water     move across the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6781680"/>
            <a:ext cx="1828800" cy="19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ffu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nergy is required to make the molecules move across the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5638680"/>
            <a:ext cx="18288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lecules are NOT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5638680"/>
            <a:ext cx="18288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lecules ARE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191120"/>
            <a:ext cx="2514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lecules are moving from             HIGH TO LOW concent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362320" y="36576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36576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6248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6248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5257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flipH="1" rot="5400000">
            <a:off x="96120" y="224640"/>
            <a:ext cx="2801880" cy="2691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38280" y="2743200"/>
            <a:ext cx="36576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lecules are moving across the selectively permeable membrane. (Picky about what can pass throug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4800" y="228600"/>
            <a:ext cx="2514600" cy="1905120"/>
          </a:xfrm>
          <a:prstGeom prst="cloudCallout">
            <a:avLst>
              <a:gd name="adj1" fmla="val -89837"/>
              <a:gd name="adj2" fmla="val 32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Y!!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hing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ing m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rane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6400800"/>
            <a:ext cx="1447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HS Campus</cp:lastModifiedBy>
  <dcterms:modified xsi:type="dcterms:W3CDTF">2007-03-29T22:41:05Z</dcterms:modified>
  <cp:revision>2</cp:revision>
  <dc:subject/>
  <dc:title>PowerPoint Presentation</dc:title>
</cp:coreProperties>
</file>