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5D7A-009E-4EB0-BBA0-864635E50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114D-E93E-4E96-A6FF-AE0D48E3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8BF2-C047-4C00-9313-E44D0F7EA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06F7-5BD4-4AB3-B185-CB712D7EF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528E-7D1A-43FE-84E1-55212A24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D2DE-176A-4E9A-9F5D-84ECB060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9276-3FC1-4EB4-9745-D5A2CF13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DC46-D5FB-4BE3-9FED-B2C7FA78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2B4B-912F-48B0-9621-D2A423EF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0A58-8B33-4635-8840-5B31733E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1287-591A-4EE9-837A-C95A8F70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49D9-3FAF-4AD8-BCF0-53A19D98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AC37-37EE-4657-A77C-862100F66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1120" y="4191120"/>
            <a:ext cx="25146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olecules are moving from              LOW TO HIGH concentr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6781680"/>
            <a:ext cx="1981080" cy="195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called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ctive transpo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ergy is required  to force the molecules across the membra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6781680"/>
            <a:ext cx="1828800" cy="192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called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smos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nergy is required to make the water     move across the membra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6781680"/>
            <a:ext cx="1828800" cy="192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called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ffus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nergy is required to make the molecules move across the membra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5638680"/>
            <a:ext cx="18288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olecules are NOT wa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5638680"/>
            <a:ext cx="18288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olecules ARE wa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4191120"/>
            <a:ext cx="25146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olecules are moving from             HIGH TO LOW concentr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362320" y="36576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36576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95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6248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6248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5257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 flipH="1" rot="5400000">
            <a:off x="96120" y="224640"/>
            <a:ext cx="2801880" cy="2691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38280" y="2743200"/>
            <a:ext cx="36576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lecules are moving across the selectively permeable membrane. (Picky about what can pass throug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14800" y="228600"/>
            <a:ext cx="2514600" cy="1905120"/>
          </a:xfrm>
          <a:prstGeom prst="cloudCallout">
            <a:avLst>
              <a:gd name="adj1" fmla="val -89837"/>
              <a:gd name="adj2" fmla="val 327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Y!!!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hing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ing m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rane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6400800"/>
            <a:ext cx="14475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SHS Campus</cp:lastModifiedBy>
  <dcterms:modified xsi:type="dcterms:W3CDTF">2007-03-29T22:41:05Z</dcterms:modified>
  <cp:revision>2</cp:revision>
  <dc:subject/>
  <dc:title>PowerPoint Presentation</dc:title>
</cp:coreProperties>
</file>