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74D-1E59-4C9F-97B0-866C6BBF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A5E-FC01-4B1D-8DEE-57360763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08F-91C8-45B1-8C12-09AF53D0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F3A-6A48-4749-AB95-EA3E9F65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EC8-7512-41B0-9691-A01AB59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4F2-87C7-417D-8E17-8684E47E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A27-2CA9-4DEE-8A55-85EFA79F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59A-6558-4FC0-95E8-E54B57B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846-41BB-47BB-839F-5D3B3B7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137-9A78-405C-A99A-E2979AC7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844-922A-4155-B55F-0BFDE0C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E73-4FA8-4DF9-A952-A425680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1B6A-1FBC-41FF-B638-598A6B762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 LOW TO HIGH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6781680"/>
            <a:ext cx="1981080" cy="19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ctive trans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is required  to force the molecules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water    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molecules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NOT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HIGH TO LOW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6232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257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flipH="1" rot="5400000">
            <a:off x="96120" y="224640"/>
            <a:ext cx="2801880" cy="269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2743200"/>
            <a:ext cx="3657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es are moving across the selectively permeable membrane. (Picky about what can pass throug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228600"/>
            <a:ext cx="2514600" cy="1905120"/>
          </a:xfrm>
          <a:prstGeom prst="cloudCallout">
            <a:avLst>
              <a:gd name="adj1" fmla="val -89837"/>
              <a:gd name="adj2" fmla="val 32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!!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ing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a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64008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HS Campus</cp:lastModifiedBy>
  <dcterms:modified xsi:type="dcterms:W3CDTF">2007-03-29T22:41:05Z</dcterms:modified>
  <cp:revision>2</cp:revision>
  <dc:subject/>
  <dc:title>PowerPoint Presentation</dc:title>
</cp:coreProperties>
</file>