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A22-1016-4EBB-A4CB-1E100053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CE4-B229-438B-B00C-82267359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F47-54E8-4DEA-97CF-A20D9D93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44E-0A55-4F72-92CC-2478FD97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E4F-C932-4BA9-8AB9-61F3E283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4EB-8036-4A37-AB42-CF7C282F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C6D-DBB8-431D-82BE-C6167835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FCA-B7E5-4984-80D0-9910E7A3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E32-54C0-43EA-8258-92A97B66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284-8345-48A7-BEA8-99BBA8C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F63-8550-4554-A168-84F03AEE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692-D52D-4B58-815D-B1442A2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CDB2-AA8D-46C7-9CD9-99D572E6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 LOW TO HIGH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6781680"/>
            <a:ext cx="1981080" cy="19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is required  to force the molecules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water    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molecules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NOT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HIGH TO LOW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flipH="1" rot="5400000">
            <a:off x="96120" y="224640"/>
            <a:ext cx="2801880" cy="269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2743200"/>
            <a:ext cx="3657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es are moving across the selectively permeable membrane. (Picky about what can pass throu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28600"/>
            <a:ext cx="2514600" cy="1905120"/>
          </a:xfrm>
          <a:prstGeom prst="cloudCallout">
            <a:avLst>
              <a:gd name="adj1" fmla="val -89837"/>
              <a:gd name="adj2" fmla="val 32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64008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S Campus</cp:lastModifiedBy>
  <dcterms:modified xsi:type="dcterms:W3CDTF">2007-03-29T22:41:05Z</dcterms:modified>
  <cp:revision>2</cp:revision>
  <dc:subject/>
  <dc:title>PowerPoint Presentation</dc:title>
</cp:coreProperties>
</file>