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ADA-5B9E-493F-A738-21FBB1A0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AFC-F9C2-4C5D-BE0B-4E32BFAB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4C9-06DF-4CB3-9F30-1AB33627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471-35F2-4C59-8EB7-37CDFA08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358-3D69-480A-9816-699B9F43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E59-704D-432C-B067-782F66F7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DA3-8E1A-4C55-84A2-797FFA1E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572-FA32-43B2-944B-2C02D53E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EE3-96D3-43DA-915B-3F9B2D96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992-98EA-44F4-9F37-4DE96DA8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586-C612-437B-B4E7-BC101388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47D-1EB5-49EB-9CF6-78BE6E5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B1C1-9D40-4F1F-948F-92CA34DCA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 LOW TO HIGH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6781680"/>
            <a:ext cx="1981080" cy="19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ctive trans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is required  to force the molecules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water    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molecules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NOT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HIGH TO LOW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6232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257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flipH="1" rot="5400000">
            <a:off x="96120" y="224640"/>
            <a:ext cx="2801880" cy="269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2743200"/>
            <a:ext cx="3657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es are moving across the selectively permeable membrane. (Picky about what can pass throug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228600"/>
            <a:ext cx="2514600" cy="1905120"/>
          </a:xfrm>
          <a:prstGeom prst="cloudCallout">
            <a:avLst>
              <a:gd name="adj1" fmla="val -89837"/>
              <a:gd name="adj2" fmla="val 32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!!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ing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a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64008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HS Campus</cp:lastModifiedBy>
  <dcterms:modified xsi:type="dcterms:W3CDTF">2007-03-29T22:41:05Z</dcterms:modified>
  <cp:revision>2</cp:revision>
  <dc:subject/>
  <dc:title>PowerPoint Presentation</dc:title>
</cp:coreProperties>
</file>