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4B93-6587-472C-8BEA-6F1B7DE9D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5012-6CCC-4D91-9F24-409D94B22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661A-5E39-4FE1-8F04-09138EC1E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B7F2-52F8-46C4-B8FD-E3BDDE707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5FE4-48E5-4C44-9FEA-184962522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17B3-476E-4997-AA57-DAE3A3F9D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5F87-B109-4602-9541-F083EF21A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70AB-3191-46C9-A306-A55AA5F4E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033F-6444-4423-81FD-6429C2AE3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3B92-60D5-4C70-B08A-550603CAD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93AC-8C0E-4D73-8244-7134D0831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B17A-8D3F-4FE3-9070-DE689F1C2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4CD0-8C8A-4CB5-A3FD-4F5EB9E92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E7A8-D6F9-4CF1-9254-939CDE83A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AA23-8078-4397-8DBF-73D041DD7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DDFD-8FAA-4AE2-B5BE-3384F1E9B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880C-7FA0-4FFF-80D1-3C7314A11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6060-03CE-46E4-8D92-6C755E14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768-41F1-4226-B9B5-95ABA7D9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57F-DFF0-4D82-8A12-DDA16B3B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C93-9F66-4FD0-A703-F94FDD78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B66-2E2E-49FB-9438-28630B12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BAF0-8E9C-48A5-BCBC-6A2DE4D5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BA6-45ED-42F7-8C2B-758E71FF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159-5F98-484F-B26B-58D7D7D7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91E-22D8-4530-8F4B-C20B5F71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3C5-D124-474C-B28D-6A7D2AB2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8C6E-4214-4F2C-86D4-CD53C63D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F986-E09F-4955-A97B-B2CDE95D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B565-D525-46E5-B5E9-BC951E50B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youtube.com/watch?v=7qgM1A3pgkQ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do we see everyday examples of static electric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3 ways to transfer charges to build up static electr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1 Charging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2 Charging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3 Charging b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1 Charging by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ubb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o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bonite r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charges are distributed evenly over the r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tral water is attracted to the negatively charged 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BendingWater"/>
          <p:cNvPicPr/>
          <p:nvPr/>
        </p:nvPicPr>
        <p:blipFill>
          <a:blip r:embed="rId1"/>
          <a:stretch/>
        </p:blipFill>
        <p:spPr>
          <a:xfrm>
            <a:off x="685800" y="2475000"/>
            <a:ext cx="380988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2 Charging by In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22_04_Charging_by_induction"/>
          <p:cNvPicPr/>
          <p:nvPr/>
        </p:nvPicPr>
        <p:blipFill>
          <a:blip r:embed="rId1"/>
          <a:stretch/>
        </p:blipFill>
        <p:spPr>
          <a:xfrm>
            <a:off x="685800" y="1981080"/>
            <a:ext cx="7543800" cy="3392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"/>
          <p:cNvSpPr/>
          <p:nvPr/>
        </p:nvSpPr>
        <p:spPr>
          <a:xfrm>
            <a:off x="1193760" y="5506920"/>
            <a:ext cx="73152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s on the rod produce a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ic fie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repel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gative charg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attract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itive charg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An overal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itive char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induced on the electroscop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3 Charging by Con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Conduction1"/>
          <p:cNvPicPr/>
          <p:nvPr/>
        </p:nvPicPr>
        <p:blipFill>
          <a:blip r:embed="rId1"/>
          <a:stretch/>
        </p:blipFill>
        <p:spPr>
          <a:xfrm>
            <a:off x="0" y="2438280"/>
            <a:ext cx="2697120" cy="19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Conduction2"/>
          <p:cNvPicPr/>
          <p:nvPr/>
        </p:nvPicPr>
        <p:blipFill>
          <a:blip r:embed="rId2"/>
          <a:stretch/>
        </p:blipFill>
        <p:spPr>
          <a:xfrm>
            <a:off x="2895480" y="2438280"/>
            <a:ext cx="3159360" cy="1981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Conduction3"/>
          <p:cNvPicPr/>
          <p:nvPr/>
        </p:nvPicPr>
        <p:blipFill>
          <a:blip r:embed="rId3"/>
          <a:stretch/>
        </p:blipFill>
        <p:spPr>
          <a:xfrm>
            <a:off x="6183360" y="2438280"/>
            <a:ext cx="2960640" cy="19814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7"/>
          <p:cNvSpPr/>
          <p:nvPr/>
        </p:nvSpPr>
        <p:spPr>
          <a:xfrm>
            <a:off x="914400" y="5410080"/>
            <a:ext cx="746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gatively charged r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uches the electroscope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rons are transferr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DIRECT CONTACT. Electrons are then distributed throughout the electrosco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uild u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atic electric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 an object do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stay there for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tend to move, returning the object to its neutral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Lightning"/>
          <p:cNvPicPr/>
          <p:nvPr/>
        </p:nvPicPr>
        <p:blipFill>
          <a:blip r:embed="rId1"/>
          <a:stretch/>
        </p:blipFill>
        <p:spPr>
          <a:xfrm>
            <a:off x="2514600" y="1523880"/>
            <a:ext cx="3956040" cy="2872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990720" y="1523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+   +   +   +   +   +   +   +  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523880" y="2133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_   -   - - _ _ - - _ _ -    -    - 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295280" y="4114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 +        + +   +  +       + +        +       +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or Static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4800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 negatively charged object and a positively charged object are brought together, electrons transfer until both objects have the sam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Lightning2"/>
          <p:cNvPicPr/>
          <p:nvPr/>
        </p:nvPicPr>
        <p:blipFill>
          <a:blip r:embed="rId1"/>
          <a:stretch/>
        </p:blipFill>
        <p:spPr>
          <a:xfrm>
            <a:off x="2133720" y="838080"/>
            <a:ext cx="5029200" cy="3652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1143000" y="990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+   +   +   +   +   +   +   +  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828800" y="1828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_   -   - - _ _ - - _ _ -    -    - 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676520" y="42670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 +        + +   +  +       + +        +       +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Picture 1"/>
          <p:cNvPicPr/>
          <p:nvPr/>
        </p:nvPicPr>
        <p:blipFill>
          <a:blip r:embed="rId1"/>
          <a:stretch/>
        </p:blipFill>
        <p:spPr>
          <a:xfrm>
            <a:off x="1143000" y="762120"/>
            <a:ext cx="6858000" cy="4122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2059560" y="541008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un with the Van DeGraaf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298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676520" y="0"/>
            <a:ext cx="219708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3"/>
          <a:stretch/>
        </p:blipFill>
        <p:spPr>
          <a:xfrm>
            <a:off x="83808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"/>
          <p:cNvPicPr/>
          <p:nvPr/>
        </p:nvPicPr>
        <p:blipFill>
          <a:blip r:embed="rId4"/>
          <a:stretch/>
        </p:blipFill>
        <p:spPr>
          <a:xfrm>
            <a:off x="5167440" y="3048120"/>
            <a:ext cx="3278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ence and flow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ic char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called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 charges can exist al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 negative charge can exist without a positive cha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5056200" y="609480"/>
            <a:ext cx="3476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uild-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har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an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all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tic electr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rges do n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 continuous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VandeGraaf"/>
          <p:cNvPicPr/>
          <p:nvPr/>
        </p:nvPicPr>
        <p:blipFill>
          <a:blip r:embed="rId1"/>
          <a:stretch/>
        </p:blipFill>
        <p:spPr>
          <a:xfrm>
            <a:off x="4648320" y="1600200"/>
            <a:ext cx="3809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ALL: Ato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81532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ium atom: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utr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cause it ha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ame nu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t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ou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has charge because has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fferent nu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A Na ion has 11 + and 10 -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469440" y="5144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4771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Charges (box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16200" y="11430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s that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ttra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s that a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p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charges interact: you have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s become charged when electrons move betwee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object becomes charged only when electrons are transferred from one location to an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ChargeTransfer"/>
          <p:cNvPicPr/>
          <p:nvPr/>
        </p:nvPicPr>
        <p:blipFill>
          <a:blip r:embed="rId1"/>
          <a:stretch/>
        </p:blipFill>
        <p:spPr>
          <a:xfrm>
            <a:off x="2514600" y="3352680"/>
            <a:ext cx="42559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ic Fields (box 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468900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ic fie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 region around a charged object w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object</a:t>
            </a:r>
            <a:r>
              <a:rPr b="0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’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 electric  for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exerted on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her charged objec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basically, it’s the area where the charge can affect other obj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2481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w of Conservation of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harges are neither created nor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ferred from one object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-304920" y="0"/>
            <a:ext cx="9906120" cy="4343400"/>
          </a:xfrm>
          <a:prstGeom prst="irregularSeal2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52280" y="6095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22:05:38Z</dcterms:created>
  <dc:creator>t g</dc:creator>
  <dc:description/>
  <dc:language>en-US</dc:language>
  <cp:lastModifiedBy>davis rachel</cp:lastModifiedBy>
  <dcterms:modified xsi:type="dcterms:W3CDTF">2013-01-10T18:58:18Z</dcterms:modified>
  <cp:revision>27</cp:revision>
  <dc:subject/>
  <dc:title>What is static electricity?</dc:title>
</cp:coreProperties>
</file>