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767F-4946-44F8-9254-1607CA2A5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BEF1-C58A-42A4-AA2B-FB37564F9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F5BC-6679-4819-8A97-EF56239F3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4841-9B98-4921-8D07-40606CCB9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77A8-C671-42CF-AA04-6749D14AA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747C-C4EA-474C-94C9-1D9D9316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CE36-5CB0-4602-9EA7-8314BD262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37F8-7637-4D60-90B1-88AAE020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7EE8-4956-439D-8040-F4CFA8304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5DD9-CEC3-48DF-BE60-5657BE7E2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9CA7-6E4D-465A-856B-30A4977E7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C52B-ED4A-4D8E-8335-C1CC60553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14C3-9BA1-4EA2-8640-B92C6D721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8BAC-2D27-4059-B8C4-A1F6F9DCF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2156-3733-4B66-8CBD-DBBDC45C8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D68D-0BD4-4B41-B14F-970A529E6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6890-CF63-4B65-BA2B-A3981B72A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5FD-E7C3-4F06-8B6F-223C2080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CD8-CA9B-4802-B4D4-98D15E74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A7F-0EDF-42F6-B043-A62653CD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B37-FE6B-4166-92D2-3E73F15E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1F0-BC69-4C48-9A54-52BB6A8D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9B9-561E-4102-BBCF-E3760F71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B61-612A-4701-A6A1-23149760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966-6CA3-46C4-B4E7-5E23D5E4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4DC-1C56-4D30-AB5C-506F9587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975-9F5A-4AD1-87AA-B8B7A70E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637-8552-4290-B1D9-94065780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F46-BBE5-4233-86BC-3DA8C78D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D9AC-51CB-431B-A0C2-31027E5FF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7qgM1A3pgkQ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do we see everyday examples of static electric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3 ways to transfer charges to build up static electr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1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3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1 Charging by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ubb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o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bonite r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charges are distributed evenly over the r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tral water is attracted to the negatively charged 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BendingWater"/>
          <p:cNvPicPr/>
          <p:nvPr/>
        </p:nvPicPr>
        <p:blipFill>
          <a:blip r:embed="rId1"/>
          <a:stretch/>
        </p:blipFill>
        <p:spPr>
          <a:xfrm>
            <a:off x="685800" y="2475000"/>
            <a:ext cx="38098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2 Charging by I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22_04_Charging_by_induction"/>
          <p:cNvPicPr/>
          <p:nvPr/>
        </p:nvPicPr>
        <p:blipFill>
          <a:blip r:embed="rId1"/>
          <a:stretch/>
        </p:blipFill>
        <p:spPr>
          <a:xfrm>
            <a:off x="685800" y="1981080"/>
            <a:ext cx="7543800" cy="3392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1193760" y="5506920"/>
            <a:ext cx="73152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s on the rod produce 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ic fie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repel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gative char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attract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char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An overal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char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induced on the electroscop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3 Charging by Co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Conduction1"/>
          <p:cNvPicPr/>
          <p:nvPr/>
        </p:nvPicPr>
        <p:blipFill>
          <a:blip r:embed="rId1"/>
          <a:stretch/>
        </p:blipFill>
        <p:spPr>
          <a:xfrm>
            <a:off x="0" y="2438280"/>
            <a:ext cx="269712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Conduction2"/>
          <p:cNvPicPr/>
          <p:nvPr/>
        </p:nvPicPr>
        <p:blipFill>
          <a:blip r:embed="rId2"/>
          <a:stretch/>
        </p:blipFill>
        <p:spPr>
          <a:xfrm>
            <a:off x="2895480" y="2438280"/>
            <a:ext cx="3159360" cy="198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Conduction3"/>
          <p:cNvPicPr/>
          <p:nvPr/>
        </p:nvPicPr>
        <p:blipFill>
          <a:blip r:embed="rId3"/>
          <a:stretch/>
        </p:blipFill>
        <p:spPr>
          <a:xfrm>
            <a:off x="6183360" y="2438280"/>
            <a:ext cx="2960640" cy="1981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7"/>
          <p:cNvSpPr/>
          <p:nvPr/>
        </p:nvSpPr>
        <p:spPr>
          <a:xfrm>
            <a:off x="914400" y="541008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gatively charged r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uches the electroscope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ns are transferr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DIRECT CONTACT. Electrons are then distributed throughout the electrosc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uild 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atic electric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 an object d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stay there for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tend to move, returning the object to its neutral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Lightning"/>
          <p:cNvPicPr/>
          <p:nvPr/>
        </p:nvPicPr>
        <p:blipFill>
          <a:blip r:embed="rId1"/>
          <a:stretch/>
        </p:blipFill>
        <p:spPr>
          <a:xfrm>
            <a:off x="2514600" y="1523880"/>
            <a:ext cx="3956040" cy="2872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990720" y="1523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+   +   +   +   +   +   +   +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523880" y="2133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_   -   - - _ _ - - _ _ -    -    -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295280" y="4114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+        + +   +  +       + +        +       +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or Static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 negatively charged object and a positively charged object are brought together, electrons transfer until both objects have the sam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Lightning2"/>
          <p:cNvPicPr/>
          <p:nvPr/>
        </p:nvPicPr>
        <p:blipFill>
          <a:blip r:embed="rId1"/>
          <a:stretch/>
        </p:blipFill>
        <p:spPr>
          <a:xfrm>
            <a:off x="2133720" y="838080"/>
            <a:ext cx="5029200" cy="3652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14300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+   +   +   +   +   +   +   +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828800" y="1828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_   -   - - _ _ - - _ _ -    -    -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676520" y="42670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+        + +   +  +       + +        +       +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Picture 1"/>
          <p:cNvPicPr/>
          <p:nvPr/>
        </p:nvPicPr>
        <p:blipFill>
          <a:blip r:embed="rId1"/>
          <a:stretch/>
        </p:blipFill>
        <p:spPr>
          <a:xfrm>
            <a:off x="1143000" y="762120"/>
            <a:ext cx="6858000" cy="4122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2059560" y="541008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un with the Van DeGraaf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29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676520" y="0"/>
            <a:ext cx="219708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4"/>
          <a:stretch/>
        </p:blipFill>
        <p:spPr>
          <a:xfrm>
            <a:off x="5167440" y="3048120"/>
            <a:ext cx="327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and flow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ic 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alled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 charges can exist al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negative charge can exist without a positive 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5056200" y="609480"/>
            <a:ext cx="3476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uild-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al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tic electr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ges do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 continuous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VandeGraaf"/>
          <p:cNvPicPr/>
          <p:nvPr/>
        </p:nvPicPr>
        <p:blipFill>
          <a:blip r:embed="rId1"/>
          <a:stretch/>
        </p:blipFill>
        <p:spPr>
          <a:xfrm>
            <a:off x="4648320" y="1600200"/>
            <a:ext cx="3809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: At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8153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 atom: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use it ha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ame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t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ou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has charge because ha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fferent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A Na ion has 11 + and 10 -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469440" y="514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771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Charges (box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16200" y="1143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ttra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a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p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harges interact: you have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become charged when electrons move betwee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object becomes charged only when electrons are transferred from one location to an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hargeTransfer"/>
          <p:cNvPicPr/>
          <p:nvPr/>
        </p:nvPicPr>
        <p:blipFill>
          <a:blip r:embed="rId1"/>
          <a:stretch/>
        </p:blipFill>
        <p:spPr>
          <a:xfrm>
            <a:off x="2514600" y="3352680"/>
            <a:ext cx="42559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Fields (box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468900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ic fie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 region around a charged object w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object</a:t>
            </a:r>
            <a:r>
              <a:rPr b="0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 electric  fo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exerted on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her charged objec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basically, it’s the area where the charge can affect other 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248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 of Conservation of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harges are neither created nor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ferred from one object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-304920" y="0"/>
            <a:ext cx="9906120" cy="4343400"/>
          </a:xfrm>
          <a:prstGeom prst="irregularSeal2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52280" y="6095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22:05:38Z</dcterms:created>
  <dc:creator>t g</dc:creator>
  <dc:description/>
  <dc:language>en-US</dc:language>
  <cp:lastModifiedBy>davis rachel</cp:lastModifiedBy>
  <dcterms:modified xsi:type="dcterms:W3CDTF">2013-01-10T18:58:18Z</dcterms:modified>
  <cp:revision>27</cp:revision>
  <dc:subject/>
  <dc:title>What is static electricity?</dc:title>
</cp:coreProperties>
</file>