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F044-0E88-4529-AD35-AAC720DE4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8CFF-1724-475B-ADD4-0CB46C261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4FA6-07D3-485D-B145-78D76178A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FAF1-F4CB-4901-B5F6-20D4803B5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A1E5-7C64-45F1-8180-48550E535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FF72-29BB-416F-8161-B90D18875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A513-8865-451C-B900-8D41C4168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2276-33A2-441D-A4B7-ECA497DFE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99EE-1341-4BCE-9A65-BBA243875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8030-63F2-4C1E-B8D9-BF85C68DE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D24C-DADD-49F2-9BA1-BE3D0E33E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6FE0-C89B-475B-8CAA-54FE5D362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BE7F-0891-4AEE-8A7A-AB1749FA0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D0DE-487A-43CA-97B8-C0F1E1137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2970-D894-4FF9-A99B-0B1DEF557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C088-92E7-4619-87B9-C661382A1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01E0-2FC8-4F42-8A1C-CF3261333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38D-1346-4A81-8820-F15C99E0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78F-9C76-4910-A53C-E7813662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005-7AB3-4903-9647-0834ABD3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81A-A228-43B1-B122-C2DBCD5B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75E-2C78-4132-AEF4-18680D60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5E7-C895-404F-A43B-0DDC0930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D6B-021E-40E8-8D03-8ACFD419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AC3-EE0C-4AED-98A9-A234C5FF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8B7-0F88-449D-B408-07C27FD2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5C5-D091-4C61-878B-18A69DA7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072-C3F6-43D6-8B7A-9671237B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5AC-4B22-4A89-B1B2-DA8C2E9B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E2DC-DEDD-43CF-BC8F-66763196C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outube.com/watch?v=7qgM1A3pgkQ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do we see everyday examples of static electric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3 ways to transfer charges to build up static electr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1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3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1 Charging by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ubb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o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bonite r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charges are distributed evenly over the r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tral water is attracted to the negatively charged 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BendingWater"/>
          <p:cNvPicPr/>
          <p:nvPr/>
        </p:nvPicPr>
        <p:blipFill>
          <a:blip r:embed="rId1"/>
          <a:stretch/>
        </p:blipFill>
        <p:spPr>
          <a:xfrm>
            <a:off x="685800" y="2475000"/>
            <a:ext cx="38098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2 Charging by I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22_04_Charging_by_induction"/>
          <p:cNvPicPr/>
          <p:nvPr/>
        </p:nvPicPr>
        <p:blipFill>
          <a:blip r:embed="rId1"/>
          <a:stretch/>
        </p:blipFill>
        <p:spPr>
          <a:xfrm>
            <a:off x="685800" y="1981080"/>
            <a:ext cx="7543800" cy="3392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1193760" y="5506920"/>
            <a:ext cx="73152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s on the rod produce 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ic fie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repel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gative charg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attract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itive charg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An overal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itive char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induced on the electroscop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3 Charging by Co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Conduction1"/>
          <p:cNvPicPr/>
          <p:nvPr/>
        </p:nvPicPr>
        <p:blipFill>
          <a:blip r:embed="rId1"/>
          <a:stretch/>
        </p:blipFill>
        <p:spPr>
          <a:xfrm>
            <a:off x="0" y="2438280"/>
            <a:ext cx="269712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Conduction2"/>
          <p:cNvPicPr/>
          <p:nvPr/>
        </p:nvPicPr>
        <p:blipFill>
          <a:blip r:embed="rId2"/>
          <a:stretch/>
        </p:blipFill>
        <p:spPr>
          <a:xfrm>
            <a:off x="2895480" y="2438280"/>
            <a:ext cx="3159360" cy="198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Conduction3"/>
          <p:cNvPicPr/>
          <p:nvPr/>
        </p:nvPicPr>
        <p:blipFill>
          <a:blip r:embed="rId3"/>
          <a:stretch/>
        </p:blipFill>
        <p:spPr>
          <a:xfrm>
            <a:off x="6183360" y="2438280"/>
            <a:ext cx="2960640" cy="19814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7"/>
          <p:cNvSpPr/>
          <p:nvPr/>
        </p:nvSpPr>
        <p:spPr>
          <a:xfrm>
            <a:off x="914400" y="5410080"/>
            <a:ext cx="74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gatively charged r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uches the electroscope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ons are transferr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DIRECT CONTACT. Electrons are then distributed throughout the electrosco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uild 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atic electric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 an object d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stay there for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tend to move, returning the object to its neutral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Lightning"/>
          <p:cNvPicPr/>
          <p:nvPr/>
        </p:nvPicPr>
        <p:blipFill>
          <a:blip r:embed="rId1"/>
          <a:stretch/>
        </p:blipFill>
        <p:spPr>
          <a:xfrm>
            <a:off x="2514600" y="1523880"/>
            <a:ext cx="3956040" cy="2872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990720" y="1523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+   +   +   +   +   +   +   +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523880" y="2133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_   -   - - _ _ - - _ _ -    -    - 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295280" y="4114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+        + +   +  +       + +        +       +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or Static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4800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 negatively charged object and a positively charged object are brought together, electrons transfer until both objects have the sam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Lightning2"/>
          <p:cNvPicPr/>
          <p:nvPr/>
        </p:nvPicPr>
        <p:blipFill>
          <a:blip r:embed="rId1"/>
          <a:stretch/>
        </p:blipFill>
        <p:spPr>
          <a:xfrm>
            <a:off x="2133720" y="838080"/>
            <a:ext cx="5029200" cy="3652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143000" y="990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+   +   +   +   +   +   +   +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828800" y="1828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_   -   - - _ _ - - _ _ -    -    - 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676520" y="42670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+        + +   +  +       + +        +       +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Picture 1"/>
          <p:cNvPicPr/>
          <p:nvPr/>
        </p:nvPicPr>
        <p:blipFill>
          <a:blip r:embed="rId1"/>
          <a:stretch/>
        </p:blipFill>
        <p:spPr>
          <a:xfrm>
            <a:off x="1143000" y="762120"/>
            <a:ext cx="6858000" cy="4122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2059560" y="541008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un with the Van DeGraaf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298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676520" y="0"/>
            <a:ext cx="219708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3"/>
          <a:stretch/>
        </p:blipFill>
        <p:spPr>
          <a:xfrm>
            <a:off x="83808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"/>
          <p:cNvPicPr/>
          <p:nvPr/>
        </p:nvPicPr>
        <p:blipFill>
          <a:blip r:embed="rId4"/>
          <a:stretch/>
        </p:blipFill>
        <p:spPr>
          <a:xfrm>
            <a:off x="5167440" y="3048120"/>
            <a:ext cx="3278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ce and flow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ic char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called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 charges can exist al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 negative charge can exist without a positive ch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5056200" y="609480"/>
            <a:ext cx="3476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uild-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har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all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tic electr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rges do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 continuous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VandeGraaf"/>
          <p:cNvPicPr/>
          <p:nvPr/>
        </p:nvPicPr>
        <p:blipFill>
          <a:blip r:embed="rId1"/>
          <a:stretch/>
        </p:blipFill>
        <p:spPr>
          <a:xfrm>
            <a:off x="4648320" y="1600200"/>
            <a:ext cx="3809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: Ato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81532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ium atom: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ut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ause it ha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ame nu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t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ou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has charge because ha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fferent nu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A Na ion has 11 + and 10 -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469440" y="514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4771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Charges (box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16200" y="11430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ttra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a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p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harges interact: you have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s become charged when electrons move betwee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object becomes charged only when electrons are transferred from one location to an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ChargeTransfer"/>
          <p:cNvPicPr/>
          <p:nvPr/>
        </p:nvPicPr>
        <p:blipFill>
          <a:blip r:embed="rId1"/>
          <a:stretch/>
        </p:blipFill>
        <p:spPr>
          <a:xfrm>
            <a:off x="2514600" y="3352680"/>
            <a:ext cx="42559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Fields (box 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468900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ic fie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 region around a charged object w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object</a:t>
            </a:r>
            <a:r>
              <a:rPr b="0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’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 electric  fo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exerted on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her charged objec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basically, it’s the area where the charge can affect other ob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248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w of Conservation of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harges are neither created nor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ferred from one object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-304920" y="0"/>
            <a:ext cx="9906120" cy="4343400"/>
          </a:xfrm>
          <a:prstGeom prst="irregularSeal2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52280" y="6095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22:05:38Z</dcterms:created>
  <dc:creator>t g</dc:creator>
  <dc:description/>
  <dc:language>en-US</dc:language>
  <cp:lastModifiedBy>davis rachel</cp:lastModifiedBy>
  <dcterms:modified xsi:type="dcterms:W3CDTF">2013-01-10T18:58:18Z</dcterms:modified>
  <cp:revision>27</cp:revision>
  <dc:subject/>
  <dc:title>What is static electricity?</dc:title>
</cp:coreProperties>
</file>