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BA7C-7AF5-4A2B-9029-E99235C8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7CAB-FC7E-45E1-A7B0-E342D972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D148-8934-4BC3-9CDF-B1F2BC68E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845A-B21E-4007-839F-DA4E5FD6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DB8-4648-42AE-A45B-73EE6FFA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3F3-DBC2-4160-BDBC-A6B2F707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CE8-F5C5-4D09-9691-37AA368F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3071-A29B-4369-871C-052483577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0B1A-CF5A-421D-B5F8-E00D1821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FFFB-1F37-4702-8074-790FF868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5AD5-8C5B-46C1-9C3C-8EC87EB0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A47-8655-4BB3-A7DE-BC323207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0114-0278-45E7-B9A2-5EE89C66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E90E-B77F-4CE8-8084-EBE9360E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520-98CF-4EDE-9DF8-0DE74F15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61C0-4086-406E-B4B2-3F7A3C594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B118-7B28-4637-AB80-A29E4289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D95-98F2-40AA-A15D-CDB0FAC7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B76-09C6-410E-B3C2-56BE3918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8DF-1A1B-4D63-A704-665A6433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FB9-D58F-4C63-8000-3B958A27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AC2-D59B-4727-9E61-0F709643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5A2-A4E3-4A60-A297-AABDDF48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F1E-E140-4B85-868F-90BD3C0B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D3A-8F45-40E7-9FC3-F5E5F2C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106-AA23-43F6-9CF0-F1D98F6C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F9D-119F-4AD3-A61E-5004ADF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824-7B08-4807-8555-1078405B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009-9C8E-41DC-B00A-64AED7D7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9AB8-84DE-405B-B6E0-1647DA5D0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7qgM1A3pgkQ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we see everyday examples of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ways to transfer charges to build up static electr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3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Charging by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bb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bonite r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harges are distributed evenly over the 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 water is attracted to the negatively charged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BendingWater"/>
          <p:cNvPicPr/>
          <p:nvPr/>
        </p:nvPicPr>
        <p:blipFill>
          <a:blip r:embed="rId1"/>
          <a:stretch/>
        </p:blipFill>
        <p:spPr>
          <a:xfrm>
            <a:off x="685800" y="2475000"/>
            <a:ext cx="3809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 Charging by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22_04_Charging_by_induction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1193760" y="5506920"/>
            <a:ext cx="73152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s on the rod produce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repel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ttrac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An over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duced on the electroscop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 Charging by 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Conduction1"/>
          <p:cNvPicPr/>
          <p:nvPr/>
        </p:nvPicPr>
        <p:blipFill>
          <a:blip r:embed="rId1"/>
          <a:stretch/>
        </p:blipFill>
        <p:spPr>
          <a:xfrm>
            <a:off x="0" y="2438280"/>
            <a:ext cx="269712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onduction2"/>
          <p:cNvPicPr/>
          <p:nvPr/>
        </p:nvPicPr>
        <p:blipFill>
          <a:blip r:embed="rId2"/>
          <a:stretch/>
        </p:blipFill>
        <p:spPr>
          <a:xfrm>
            <a:off x="2895480" y="2438280"/>
            <a:ext cx="315936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onduction3"/>
          <p:cNvPicPr/>
          <p:nvPr/>
        </p:nvPicPr>
        <p:blipFill>
          <a:blip r:embed="rId3"/>
          <a:stretch/>
        </p:blipFill>
        <p:spPr>
          <a:xfrm>
            <a:off x="6183360" y="2438280"/>
            <a:ext cx="2960640" cy="19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914400" y="54100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ly charged r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uches the electroscop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ns are transfer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DIRECT CONTACT. Electrons are then distributed throughout the electrosc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ild 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c electri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n object d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stay there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tend to move, returning the object to its neut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ightning"/>
          <p:cNvPicPr/>
          <p:nvPr/>
        </p:nvPicPr>
        <p:blipFill>
          <a:blip r:embed="rId1"/>
          <a:stretch/>
        </p:blipFill>
        <p:spPr>
          <a:xfrm>
            <a:off x="2514600" y="1523880"/>
            <a:ext cx="3956040" cy="2872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3880" y="2133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or 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negatively charged object and a positively charged object are brought together, electrons transfer until both objects have the sam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ghtning2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3652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430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76520" y="4267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Picture 1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05956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n with the Van DeGraa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9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676520" y="0"/>
            <a:ext cx="21970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4"/>
          <a:stretch/>
        </p:blipFill>
        <p:spPr>
          <a:xfrm>
            <a:off x="5167440" y="3048120"/>
            <a:ext cx="327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and flow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alle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charges can exist al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negative charge can exist without a positi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5056200" y="609480"/>
            <a:ext cx="347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ild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c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s do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continuous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VandeGraaf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: A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atom: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it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ou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as charge because h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t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A Na ion has 11 + and 10 -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69440" y="514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7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harges (box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6200" y="1143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tr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arges interact: you have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become charged when electrons move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bject becomes charged only when electrons are transferred from one location to an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hargeTransfer"/>
          <p:cNvPicPr/>
          <p:nvPr/>
        </p:nvPicPr>
        <p:blipFill>
          <a:blip r:embed="rId1"/>
          <a:stretch/>
        </p:blipFill>
        <p:spPr>
          <a:xfrm>
            <a:off x="2514600" y="3352680"/>
            <a:ext cx="42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Fields (box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6890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 region around a charged object w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object</a:t>
            </a: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 electric 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xerted on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er charged o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asically, it’s the area where the charge can affect other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24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 of Conservation of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rges are neither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ferred from one objec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-304920" y="0"/>
            <a:ext cx="9906120" cy="43434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52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2:05:38Z</dcterms:created>
  <dc:creator>t g</dc:creator>
  <dc:description/>
  <dc:language>en-US</dc:language>
  <cp:lastModifiedBy>davis rachel</cp:lastModifiedBy>
  <dcterms:modified xsi:type="dcterms:W3CDTF">2013-01-10T18:58:18Z</dcterms:modified>
  <cp:revision>27</cp:revision>
  <dc:subject/>
  <dc:title>What is static electricity?</dc:title>
</cp:coreProperties>
</file>