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502-591C-42A1-A6EA-64E15E30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727E-2BC0-4150-BA11-43A1215A3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CE17-32B3-4BBC-B110-803FB8A95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061F-B098-4303-8212-9AB79475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A0E1-3571-4720-935B-DE356DA4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D0AB-ED6B-44DB-881F-08EF498A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D109-C5FF-4760-8EC3-7C705BEC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E03B-C03A-4102-9113-B9BC43B54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EA10-4338-4AB5-B650-3AEB78D6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FE0B-B79C-43A0-9ABB-4D557B8C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651-B5AA-4653-A5A0-454DDE20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E8F-B333-4C52-82D7-E3FA32188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CCEC-044D-440A-B6DC-76AB6779A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919B-C5B6-475E-A828-A224DA00A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B83-BD70-4862-9EB1-4F0B4A983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3122-0426-4695-BD6C-7B77E1A7D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AABC-D940-4D29-A2D7-732DEDBEB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7FC-7BD5-4721-95FF-764BD9E7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614-0472-46A7-98B3-5AAC4AF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907-246C-42F3-9BA0-D0F7543C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799-F977-49D1-9FAB-AD7FDF5A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EBF-F20C-421D-B468-5EC4EC59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4A3-3B90-4211-92E6-B909176A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D22-AF1C-4905-BA47-53F5E188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0A3-0C7E-4654-B9C5-4EEDC5D7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915-69F0-4883-A07E-0088E91C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A31-F12B-4F73-A859-30A94BC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1CF-4698-4F20-B080-F8141D7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553-ED3A-4E61-BD1F-A52F97C0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1FE0-B827-4B80-BE92-2CB36EFB7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7qgM1A3pgkQ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o we see everyday examples of static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ways to transfer charges to build up static electr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1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3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Charging by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bb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bonite r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charges are distributed evenly over the r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al water is attracted to the negatively charged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BendingWater"/>
          <p:cNvPicPr/>
          <p:nvPr/>
        </p:nvPicPr>
        <p:blipFill>
          <a:blip r:embed="rId1"/>
          <a:stretch/>
        </p:blipFill>
        <p:spPr>
          <a:xfrm>
            <a:off x="685800" y="2475000"/>
            <a:ext cx="38098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2 Charging by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22_04_Charging_by_induction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3392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1193760" y="5506920"/>
            <a:ext cx="73152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s on the rod produce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repel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attrac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An overa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duced on the electroscop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3 Charging by 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Conduction1"/>
          <p:cNvPicPr/>
          <p:nvPr/>
        </p:nvPicPr>
        <p:blipFill>
          <a:blip r:embed="rId1"/>
          <a:stretch/>
        </p:blipFill>
        <p:spPr>
          <a:xfrm>
            <a:off x="0" y="2438280"/>
            <a:ext cx="269712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onduction2"/>
          <p:cNvPicPr/>
          <p:nvPr/>
        </p:nvPicPr>
        <p:blipFill>
          <a:blip r:embed="rId2"/>
          <a:stretch/>
        </p:blipFill>
        <p:spPr>
          <a:xfrm>
            <a:off x="2895480" y="2438280"/>
            <a:ext cx="315936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onduction3"/>
          <p:cNvPicPr/>
          <p:nvPr/>
        </p:nvPicPr>
        <p:blipFill>
          <a:blip r:embed="rId3"/>
          <a:stretch/>
        </p:blipFill>
        <p:spPr>
          <a:xfrm>
            <a:off x="6183360" y="2438280"/>
            <a:ext cx="2960640" cy="19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7"/>
          <p:cNvSpPr/>
          <p:nvPr/>
        </p:nvSpPr>
        <p:spPr>
          <a:xfrm>
            <a:off x="914400" y="541008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ly charged r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uches the electroscope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ns are transfer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DIRECT CONTACT. Electrons are then distributed throughout the electrosc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ild 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tic electri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n object d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stay there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tend to move, returning the object to its neutr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ightning"/>
          <p:cNvPicPr/>
          <p:nvPr/>
        </p:nvPicPr>
        <p:blipFill>
          <a:blip r:embed="rId1"/>
          <a:stretch/>
        </p:blipFill>
        <p:spPr>
          <a:xfrm>
            <a:off x="2514600" y="1523880"/>
            <a:ext cx="3956040" cy="2872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990720" y="1523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523880" y="2133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95280" y="4114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or Static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negatively charged object and a positively charged object are brought together, electrons transfer until both objects have the sam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ghtning2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3652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14300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82880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76520" y="42670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Picture 1"/>
          <p:cNvPicPr/>
          <p:nvPr/>
        </p:nvPicPr>
        <p:blipFill>
          <a:blip r:embed="rId1"/>
          <a:stretch/>
        </p:blipFill>
        <p:spPr>
          <a:xfrm>
            <a:off x="1143000" y="762120"/>
            <a:ext cx="685800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059560" y="541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un with the Van DeGraaf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9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676520" y="0"/>
            <a:ext cx="21970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4"/>
          <a:stretch/>
        </p:blipFill>
        <p:spPr>
          <a:xfrm>
            <a:off x="5167440" y="3048120"/>
            <a:ext cx="327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and flow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alled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charges can exist al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negative charge can exist without a positive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5056200" y="609480"/>
            <a:ext cx="347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ild-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c electr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s do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 continuous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VandeGraaf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: A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atom: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it h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me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ou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as charge because h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t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A Na ion has 11 + and 10 -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69440" y="514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7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harges (box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6200" y="1143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tra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arges interact: you have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become charged when electrons move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object becomes charged only when electrons are transferred from one location to an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hargeTransfer"/>
          <p:cNvPicPr/>
          <p:nvPr/>
        </p:nvPicPr>
        <p:blipFill>
          <a:blip r:embed="rId1"/>
          <a:stretch/>
        </p:blipFill>
        <p:spPr>
          <a:xfrm>
            <a:off x="2514600" y="3352680"/>
            <a:ext cx="4255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Fields (box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6890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 region around a charged object w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object</a:t>
            </a: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 electric 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xerted on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her charged o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asically, it’s the area where the charge can affect other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24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 of Conservation of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arges are neither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ferred from one objec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-304920" y="0"/>
            <a:ext cx="9906120" cy="43434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522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2:05:38Z</dcterms:created>
  <dc:creator>t g</dc:creator>
  <dc:description/>
  <dc:language>en-US</dc:language>
  <cp:lastModifiedBy>davis rachel</cp:lastModifiedBy>
  <dcterms:modified xsi:type="dcterms:W3CDTF">2013-01-10T18:58:18Z</dcterms:modified>
  <cp:revision>27</cp:revision>
  <dc:subject/>
  <dc:title>What is static electricity?</dc:title>
</cp:coreProperties>
</file>